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39F-BDDC-48CA-A564-8F4B6CB4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F34-EADF-4D90-B3A2-AAB596EA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8B1AC-E06C-4C6F-AA7C-A59507BB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67E99-9768-43D4-A328-F23FCA3B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2A6E0-E4ED-4921-B9B8-E510CC74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C9F31-745E-420F-9204-148F6949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A01F6-BA9B-422B-BB79-8A434AD6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E9731-14CD-407F-8BFD-189452CD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B935F-6AAC-4B92-BAA4-AE3D4512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70C7C-3665-45BF-98DA-3D6E88EE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9AB5E-9113-41EF-B9AB-A210F5F5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9A89C-D3A5-46C4-BDEB-E189EFC35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2B07-F70B-453C-98CC-E1E4A050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10619E-DAF1-49E8-821C-5870E674F47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926EA-D94F-4ED5-97E8-EEAD7F0C449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533913-AD16-4084-A289-8A69C912345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A5400-0B77-4411-8A77-BC09D7F5170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AAE9A0-B1E6-46C8-93FD-A220E0CD83A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DD888F-F774-4CF8-BF3C-3B169706351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55D6A2-4260-4A82-8B0A-3732E1A540A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2F827-B2DF-4093-AA0F-D09DEA9474D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DFD8C-2EE6-440E-A92A-A8E5A03B6A2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10D36-BE5A-49B6-AD25-6B23ABA00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287E-EB2A-4A8F-85B5-8B6324FB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9FF1A-87D2-4FF3-A96D-0D92A52E3EC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37E6EA-3E5D-4BF2-8CE7-08AB12F0DF4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6DFBD3-7098-4C7B-98B8-F7E7A29BB4D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9C0EC5-A537-46AF-AE21-3A60E5A9C4D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34096E-EE50-43DF-8754-268C6415131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0DCFA1-B09C-40C6-9C06-4FC924055AC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1462D2-61F0-4678-8B37-C70984C1EED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33EB21-E2B3-4D50-88A6-89BA43DF69F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292E18-28D7-4EC5-B38E-8D853E6ABBB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21CB97-325E-4107-8179-51C95D085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2018-ADAA-4F51-83F1-3860524F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6CA16A-EA92-4F30-B60F-A3FD02EF753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F663CB-584A-47D2-BEFF-50752CF6F9E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21F39F-56EA-4B5B-94D3-F60384CA30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DEE4-B6D3-4AC0-A6FA-655CC4FC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28CF-636E-4153-B6FA-519A7F17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3BCA-97C5-42C7-80EB-AD4151F8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55AD-2B91-4B41-9305-7C3C9108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4D25-29DD-40DC-B42C-09FC5023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CE69-1125-4B5A-B77F-446AEFAD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B14-3D8E-4BB8-BAD7-0AD02BFB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0A8C-FEE2-487C-B043-F59A5090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516F-7DE1-43B2-B67E-D77A7B14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2277-3390-4E4D-B18D-71651CA5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F507-ECC5-4011-9B4F-35A7FBD3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6E24-F52E-4974-B69A-1E5CCCEE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0E357-0299-44A4-8664-F6633B81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EB032-8FC7-4EAB-8930-AE5D7D5B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F9ADF-0E03-4A9E-A9E7-DDB8CC5F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25DE5-FF4B-449B-AC55-1E465E2D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9F449-F971-44AE-BCCF-101C1B2C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4919-BDE3-4A36-ADA9-9BAA06BA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05475-74F9-4A04-9CBC-34615BEC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B1131-F2CA-4ACE-8E50-F3A73AF6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C4B72-F8C3-433E-9646-4C22B27C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78CA2-3EFB-4CC8-A615-E446E728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A20AE-9C2F-48A7-A932-7E9CC381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8E94D-6F10-430F-8B8F-FD3E3FFB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E4B3E-EB6B-4085-9F95-99D5CA63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B4622-597F-4C50-A28A-36AC39BA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11F72-CA43-4D6D-8CAC-C1119A6F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04887-7975-4D54-85D2-675FE5F4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5C3-4DA0-4C8F-AD24-F64229F0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99E48-AC30-4DA1-B211-91C4C4A5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0BA2A-A54D-4DF4-A313-2055466D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BDA0C-CE48-4067-9636-8D1D6981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13D34-78B8-4C58-8C7C-DEFDD751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7A277-B6DD-490A-BEF0-356D3B2E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F4BA3-233D-46CA-A757-5EA8638D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4CCE2-E844-4DCC-A9B0-2BDB8D59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F924D-7ED3-4721-9A47-9E5D99B3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5C5EB-0CB2-447D-815C-5B8B95FA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380FE-3880-41EA-B872-4EAA8736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5D4-7D8A-4AB7-AAEF-51C2784F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84B74-8DE6-48D5-A02A-7F910373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1AF25-9C57-494B-8980-686548E6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23A4C-7D40-4BDE-B99F-67908B9D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EF13D-5F38-4FCF-8F12-C8334899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67536-3405-4A53-8C9C-C90CCE82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FC42F-27C6-46CC-936B-E02AF992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A03CF-0955-4BA7-8407-0D66E7A3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82D11-8F78-4667-8494-744BD768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5CE24-84D5-405C-A98D-CC5ECC82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B2CB1-F04D-4D8B-8AA9-0C2A0118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6EC-3212-41E3-A455-52F7A34E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FD926-9741-4AB3-A07D-AC6A7493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E30EC-0EE4-4E6C-BF7C-820BA7F9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0EBCA-AFD8-4046-AB80-D56313FA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FA1B1-2737-499B-8009-3FAA8ECE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D3F89-1695-4F31-B154-9F895171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720F9-B460-4E53-B97B-3976CCD4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68B1D-E6F6-44FE-B954-11FEC8F7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AF00B-3AA0-41E1-B26A-689B7453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92DFE-F6D8-4480-9773-612ED960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E3D55-B85F-4ECE-BAFB-3A8D38F8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5F4-88E8-4808-BD50-DF0D4D79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41042-C266-4902-AF29-52596E47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6F1CD-23ED-4CA0-A78D-F2583B9B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FD1B9-1F51-434B-B2CF-37086D22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4F4AD-B98E-4CD2-93C4-F92A023E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37A03-0934-41A5-8EEF-3EADB7A0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89C19-4895-4E2E-8F6B-09A87469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1D141-8C4D-4263-B848-CDD9AFA6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0CF34-DA21-4725-B807-B61894B2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4F994-78D5-4773-BF60-4B7E89C0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EC5E8-15B2-46F5-8687-D012A826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F8F-C369-4CCC-A8D7-A830D38A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A921E-9A8A-4D83-A642-7D68074A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1BF49-DF09-470B-A1AD-69E5FEEF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C7C8F-8E4C-4B12-85A7-CFB8B87D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363E9-0E82-4310-9774-51C6E80A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A7D53-809C-4529-876C-E6B57407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7E63C-1809-477A-91F0-32627C59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31B29-E09F-41F1-8441-12171233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F10D4-A7D0-4173-B790-84E85271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BE406-0848-49E1-A032-3E900F99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2510F-93DE-49B6-A98B-A2425E21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545-0BD2-45F7-AE6E-E2407F8C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FD079-B52D-4D03-81D7-1C3D91D1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59A5B-A9AC-4576-ACD2-42ED3D25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DD5FC-45BF-4D73-B51A-0DB04629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DCC6D-28B1-4B03-B56D-7B8931E0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063BC-CAE5-4613-BFC8-A2DA6AF1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C53B0-E0F1-43B3-8B02-CC27FC49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46E9E-2AF8-46C2-A766-0C74C97E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66C4A-7A88-4165-A17E-C3CDD5BD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72D78-1C3C-46CD-9670-4C79004F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3DA48-C26E-455D-AF37-0B44C165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7967084-8993-4990-B6AE-FBCCEE6AF922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630F45B-AFC0-4497-BDCE-DA93E6B76556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41BAA21-5A85-4396-91BC-CDD46C43C5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6AFD003-2C80-41ED-9FF0-162A19D341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019ECC59-CDF0-4868-9007-D8E2C98D78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2DA9BAFC-D25A-4CD3-8866-7D9760F524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17620347-4E6D-498A-A8AF-575F5FD247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FB461EF4-1D93-4C3A-B58E-B6B916AC84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EBCC0DD4-7826-4057-BDC1-C198063335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65280" y="3423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Demand and Supply: </a:t>
            </a:r>
            <a:br>
              <a:rPr sz="4800"/>
            </a:b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an Introductio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371600" y="2976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2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ubtitle 2"/>
          <p:cNvSpPr/>
          <p:nvPr/>
        </p:nvSpPr>
        <p:spPr>
          <a:xfrm>
            <a:off x="1365120" y="50436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5486400" y="1371600"/>
          <a:ext cx="2743200" cy="32004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6"/>
          <p:cNvSpPr/>
          <p:nvPr/>
        </p:nvSpPr>
        <p:spPr>
          <a:xfrm flipV="1">
            <a:off x="1539720" y="3567240"/>
            <a:ext cx="3122640" cy="936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28"/>
          <p:cNvSpPr/>
          <p:nvPr/>
        </p:nvSpPr>
        <p:spPr>
          <a:xfrm flipH="1">
            <a:off x="4647960" y="3557520"/>
            <a:ext cx="4680" cy="21574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26"/>
          <p:cNvSpPr/>
          <p:nvPr/>
        </p:nvSpPr>
        <p:spPr>
          <a:xfrm flipV="1">
            <a:off x="1546200" y="3159000"/>
            <a:ext cx="2617920" cy="79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traight Connector 28"/>
          <p:cNvSpPr/>
          <p:nvPr/>
        </p:nvSpPr>
        <p:spPr>
          <a:xfrm flipH="1">
            <a:off x="4194000" y="3141720"/>
            <a:ext cx="6480" cy="2554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26"/>
          <p:cNvSpPr/>
          <p:nvPr/>
        </p:nvSpPr>
        <p:spPr>
          <a:xfrm flipV="1">
            <a:off x="1554120" y="2760480"/>
            <a:ext cx="2157480" cy="61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28"/>
          <p:cNvSpPr/>
          <p:nvPr/>
        </p:nvSpPr>
        <p:spPr>
          <a:xfrm>
            <a:off x="3711600" y="2743200"/>
            <a:ext cx="22320" cy="29527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Straight Arrow Connector 47"/>
          <p:cNvCxnSpPr/>
          <p:nvPr/>
        </p:nvCxnSpPr>
        <p:spPr>
          <a:xfrm flipH="1">
            <a:off x="4762080" y="2100240"/>
            <a:ext cx="634320" cy="12787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0" name="Rectangle 49"/>
          <p:cNvSpPr/>
          <p:nvPr/>
        </p:nvSpPr>
        <p:spPr>
          <a:xfrm>
            <a:off x="5495760" y="1814400"/>
            <a:ext cx="272448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0"/>
          <p:cNvSpPr/>
          <p:nvPr/>
        </p:nvSpPr>
        <p:spPr>
          <a:xfrm>
            <a:off x="5502240" y="2271600"/>
            <a:ext cx="272412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Straight Arrow Connector 51"/>
          <p:cNvCxnSpPr/>
          <p:nvPr/>
        </p:nvCxnSpPr>
        <p:spPr>
          <a:xfrm flipH="1">
            <a:off x="4381200" y="2539080"/>
            <a:ext cx="1023120" cy="501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3" name="Rectangle 55"/>
          <p:cNvSpPr/>
          <p:nvPr/>
        </p:nvSpPr>
        <p:spPr>
          <a:xfrm>
            <a:off x="5492880" y="2741760"/>
            <a:ext cx="2741400" cy="46656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Straight Arrow Connector 56"/>
          <p:cNvCxnSpPr/>
          <p:nvPr/>
        </p:nvCxnSpPr>
        <p:spPr>
          <a:xfrm flipH="1" flipV="1">
            <a:off x="3879000" y="2755080"/>
            <a:ext cx="1531080" cy="23580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5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3D76FC7-FA28-416A-8045-9E2CDAC468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Straight Arrow Connector 51"/>
          <p:cNvCxnSpPr/>
          <p:nvPr/>
        </p:nvCxnSpPr>
        <p:spPr>
          <a:xfrm flipV="1">
            <a:off x="4614840" y="3849480"/>
            <a:ext cx="310320" cy="2973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58" name="TextBox 33"/>
          <p:cNvSpPr/>
          <p:nvPr/>
        </p:nvSpPr>
        <p:spPr>
          <a:xfrm>
            <a:off x="2093760" y="39765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mand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FA3FA87-33F0-4E9D-BF22-FDA0EC8035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5486400" y="1371600"/>
          <a:ext cx="2743200" cy="32004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Rectangle 52"/>
          <p:cNvSpPr/>
          <p:nvPr/>
        </p:nvSpPr>
        <p:spPr>
          <a:xfrm>
            <a:off x="5495760" y="1839960"/>
            <a:ext cx="2724480" cy="90324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Curved Down Arrow 53"/>
          <p:cNvSpPr/>
          <p:nvPr/>
        </p:nvSpPr>
        <p:spPr>
          <a:xfrm rot="5400000">
            <a:off x="8099280" y="2174760"/>
            <a:ext cx="609480" cy="285840"/>
          </a:xfrm>
          <a:custGeom>
            <a:avLst/>
            <a:gdLst>
              <a:gd name="textAreaLeft" fmla="*/ 125640 w 609480"/>
              <a:gd name="textAreaRight" fmla="*/ 448200 w 60948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2" hR="21600" stAng="10800000" swAng="5400000"/>
                <a:lnTo>
                  <a:pt x="11433" y="0"/>
                </a:lnTo>
                <a:arcTo wR="8902" hR="21600" stAng="-5400000" swAng="3475886"/>
                <a:lnTo>
                  <a:pt x="21317" y="16200"/>
                </a:lnTo>
                <a:lnTo>
                  <a:pt x="19069" y="21600"/>
                </a:lnTo>
                <a:lnTo>
                  <a:pt x="16254" y="16200"/>
                </a:lnTo>
                <a:lnTo>
                  <a:pt x="17520" y="16200"/>
                </a:lnTo>
                <a:arcTo wR="8902" hR="21600" stAng="-1924114" swAng="-3272646"/>
                <a:lnTo>
                  <a:pt x="10167" y="219"/>
                </a:lnTo>
                <a:arcTo wR="8902" hR="21600" stAng="-5603240" swAng="-5196760"/>
                <a:close/>
              </a:path>
              <a:path fill="darkenLess" w="21600" h="21600">
                <a:moveTo>
                  <a:pt x="0" y="21600"/>
                </a:moveTo>
                <a:arcTo wR="8902" hR="21600" stAng="10800000" swAng="5400000"/>
                <a:lnTo>
                  <a:pt x="8902" y="0"/>
                </a:lnTo>
                <a:arcTo wR="8902" hR="21600" stAng="-5400000" swAng="203240"/>
                <a:lnTo>
                  <a:pt x="10167" y="219"/>
                </a:lnTo>
                <a:arcTo wR="8902" hR="21600" stAng="-5603240" swAng="-5196760"/>
                <a:close/>
              </a:path>
            </a:pathLst>
          </a:cu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Straight Arrow Connector 57"/>
          <p:cNvCxnSpPr/>
          <p:nvPr/>
        </p:nvCxnSpPr>
        <p:spPr>
          <a:xfrm flipH="1" flipV="1">
            <a:off x="3967920" y="3390120"/>
            <a:ext cx="477000" cy="4071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85" name="Text Box 6"/>
          <p:cNvSpPr/>
          <p:nvPr/>
        </p:nvSpPr>
        <p:spPr>
          <a:xfrm>
            <a:off x="4842360" y="322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4347000" y="276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82C3C59-27D9-4A05-A2E9-952B886BCF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31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Down Arrow 54"/>
          <p:cNvSpPr/>
          <p:nvPr/>
        </p:nvSpPr>
        <p:spPr>
          <a:xfrm rot="10800000">
            <a:off x="495000" y="314928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Straight Arrow Connector 57"/>
          <p:cNvCxnSpPr/>
          <p:nvPr/>
        </p:nvCxnSpPr>
        <p:spPr>
          <a:xfrm flipH="1" flipV="1">
            <a:off x="3967920" y="3390120"/>
            <a:ext cx="477000" cy="4071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611" name="Down Arrow 60"/>
          <p:cNvSpPr/>
          <p:nvPr/>
        </p:nvSpPr>
        <p:spPr>
          <a:xfrm rot="5400000">
            <a:off x="4227120" y="520236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4842360" y="322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4347000" y="276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Rounded Rectangle 29"/>
          <p:cNvGrpSpPr/>
          <p:nvPr/>
        </p:nvGrpSpPr>
        <p:grpSpPr>
          <a:xfrm>
            <a:off x="5505480" y="1994040"/>
            <a:ext cx="3084480" cy="2906640"/>
            <a:chOff x="5505480" y="1994040"/>
            <a:chExt cx="3084480" cy="2906640"/>
          </a:xfrm>
        </p:grpSpPr>
        <p:pic>
          <p:nvPicPr>
            <p:cNvPr id="615" name="Rounded Rectangle 29" descr=""/>
            <p:cNvPicPr/>
            <p:nvPr/>
          </p:nvPicPr>
          <p:blipFill>
            <a:blip r:embed="rId1"/>
            <a:stretch/>
          </p:blipFill>
          <p:spPr>
            <a:xfrm>
              <a:off x="5505480" y="1994040"/>
              <a:ext cx="3084480" cy="29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699160" y="2168640"/>
              <a:ext cx="2698560" cy="25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price increases, quantity demanded decrea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vement is along an existing demand l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Slide Number Placeholder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3ABD440-43FE-4520-9327-6510C33D08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3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3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Demand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Down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come effec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effect of a price change on real income, and therefore on quantity demanded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6a6a6"/>
                </a:solidFill>
                <a:latin typeface="Times New Roman"/>
              </a:rPr>
              <a:t>Real inco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easured in terms of the goods and services it will buy</a:t>
            </a:r>
            <a:br>
              <a:rPr sz="2800"/>
            </a:b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al income will increase if prices fal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4E7E1A1-DFCD-4924-9D35-C7A10387E3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Demand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Down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bstitution effec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bstitution of one product for another as a result of a change in their relative pr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C931ACC-CCD7-489A-830A-179201C50E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demand for a product or service from all consumer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BCAD64E-4E42-450F-9FE5-D5ED3B0AF4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Demand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787320" y="1397160"/>
          <a:ext cx="7543800" cy="4983120"/>
        </p:xfrm>
        <a:graphic>
          <a:graphicData uri="http://schemas.openxmlformats.org/drawingml/2006/table">
            <a:tbl>
              <a:tblPr/>
              <a:tblGrid>
                <a:gridCol w="1371600"/>
                <a:gridCol w="1524240"/>
                <a:gridCol w="1352520"/>
                <a:gridCol w="1501560"/>
                <a:gridCol w="17938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demand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i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7" name="TextBox 7"/>
          <p:cNvSpPr/>
          <p:nvPr/>
        </p:nvSpPr>
        <p:spPr>
          <a:xfrm>
            <a:off x="7099200" y="3005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7099200" y="3637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9"/>
          <p:cNvSpPr/>
          <p:nvPr/>
        </p:nvSpPr>
        <p:spPr>
          <a:xfrm>
            <a:off x="7099200" y="4356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10"/>
          <p:cNvSpPr/>
          <p:nvPr/>
        </p:nvSpPr>
        <p:spPr>
          <a:xfrm>
            <a:off x="7132680" y="504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7132680" y="5727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2"/>
          <p:cNvSpPr/>
          <p:nvPr/>
        </p:nvSpPr>
        <p:spPr>
          <a:xfrm>
            <a:off x="3728520" y="3024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5068440" y="3033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14"/>
          <p:cNvSpPr/>
          <p:nvPr/>
        </p:nvSpPr>
        <p:spPr>
          <a:xfrm>
            <a:off x="668124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AA0C9F2-57F2-476C-A199-3BA6E05FE4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1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219320" y="1828800"/>
            <a:ext cx="5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7373880" y="59436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"/>
          <p:cNvSpPr/>
          <p:nvPr/>
        </p:nvSpPr>
        <p:spPr>
          <a:xfrm>
            <a:off x="2362320" y="167652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5"/>
          <p:cNvSpPr/>
          <p:nvPr/>
        </p:nvSpPr>
        <p:spPr>
          <a:xfrm>
            <a:off x="2362320" y="5943600"/>
            <a:ext cx="464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2211480" y="5943600"/>
            <a:ext cx="51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2    4    6    8    10   12   14   16   18  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38"/>
          <p:cNvGrpSpPr/>
          <p:nvPr/>
        </p:nvGrpSpPr>
        <p:grpSpPr>
          <a:xfrm>
            <a:off x="2666880" y="1981080"/>
            <a:ext cx="1981440" cy="2872440"/>
            <a:chOff x="2666880" y="1981080"/>
            <a:chExt cx="1981440" cy="2872440"/>
          </a:xfrm>
        </p:grpSpPr>
        <p:sp>
          <p:nvSpPr>
            <p:cNvPr id="654" name="Line 8"/>
            <p:cNvSpPr/>
            <p:nvPr/>
          </p:nvSpPr>
          <p:spPr>
            <a:xfrm>
              <a:off x="2666880" y="1981080"/>
              <a:ext cx="914400" cy="24386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3"/>
            <p:cNvSpPr/>
            <p:nvPr/>
          </p:nvSpPr>
          <p:spPr>
            <a:xfrm>
              <a:off x="3276360" y="4343400"/>
              <a:ext cx="13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OMI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Text Box 27"/>
          <p:cNvSpPr/>
          <p:nvPr/>
        </p:nvSpPr>
        <p:spPr>
          <a:xfrm>
            <a:off x="1769040" y="4191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8"/>
          <p:cNvSpPr/>
          <p:nvPr/>
        </p:nvSpPr>
        <p:spPr>
          <a:xfrm>
            <a:off x="1769040" y="3562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9"/>
          <p:cNvSpPr/>
          <p:nvPr/>
        </p:nvSpPr>
        <p:spPr>
          <a:xfrm>
            <a:off x="1769040" y="2952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0"/>
          <p:cNvSpPr/>
          <p:nvPr/>
        </p:nvSpPr>
        <p:spPr>
          <a:xfrm>
            <a:off x="1769040" y="1752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37"/>
          <p:cNvSpPr/>
          <p:nvPr/>
        </p:nvSpPr>
        <p:spPr>
          <a:xfrm flipV="1">
            <a:off x="2209680" y="510516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38"/>
          <p:cNvSpPr/>
          <p:nvPr/>
        </p:nvSpPr>
        <p:spPr>
          <a:xfrm flipV="1">
            <a:off x="2209680" y="518112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0"/>
          <p:cNvSpPr/>
          <p:nvPr/>
        </p:nvSpPr>
        <p:spPr>
          <a:xfrm>
            <a:off x="1769040" y="236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40"/>
          <p:cNvGrpSpPr/>
          <p:nvPr/>
        </p:nvGrpSpPr>
        <p:grpSpPr>
          <a:xfrm>
            <a:off x="2514600" y="1905120"/>
            <a:ext cx="2590920" cy="2719800"/>
            <a:chOff x="2514600" y="1905120"/>
            <a:chExt cx="2590920" cy="2719800"/>
          </a:xfrm>
        </p:grpSpPr>
        <p:sp>
          <p:nvSpPr>
            <p:cNvPr id="664" name="Text Box 35"/>
            <p:cNvSpPr/>
            <p:nvPr/>
          </p:nvSpPr>
          <p:spPr>
            <a:xfrm>
              <a:off x="4114800" y="411480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8080"/>
                  </a:solidFill>
                  <a:latin typeface="Times New Roman"/>
                </a:rPr>
                <a:t>J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Group 39"/>
            <p:cNvGrpSpPr/>
            <p:nvPr/>
          </p:nvGrpSpPr>
          <p:grpSpPr>
            <a:xfrm>
              <a:off x="2514600" y="1905120"/>
              <a:ext cx="1752840" cy="2590920"/>
              <a:chOff x="2514600" y="1905120"/>
              <a:chExt cx="1752840" cy="2590920"/>
            </a:xfrm>
          </p:grpSpPr>
          <p:sp>
            <p:nvSpPr>
              <p:cNvPr id="666" name="Line 15"/>
              <p:cNvSpPr/>
              <p:nvPr/>
            </p:nvSpPr>
            <p:spPr>
              <a:xfrm>
                <a:off x="2971800" y="2514600"/>
                <a:ext cx="45720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31"/>
              <p:cNvSpPr/>
              <p:nvPr/>
            </p:nvSpPr>
            <p:spPr>
              <a:xfrm>
                <a:off x="3429000" y="3124440"/>
                <a:ext cx="38088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32"/>
              <p:cNvSpPr/>
              <p:nvPr/>
            </p:nvSpPr>
            <p:spPr>
              <a:xfrm>
                <a:off x="3810240" y="3733920"/>
                <a:ext cx="457200" cy="76212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15"/>
              <p:cNvSpPr/>
              <p:nvPr/>
            </p:nvSpPr>
            <p:spPr>
              <a:xfrm>
                <a:off x="2514600" y="1905120"/>
                <a:ext cx="45720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0" name="Group 36"/>
          <p:cNvGrpSpPr/>
          <p:nvPr/>
        </p:nvGrpSpPr>
        <p:grpSpPr>
          <a:xfrm>
            <a:off x="2894040" y="1980720"/>
            <a:ext cx="231840" cy="2745360"/>
            <a:chOff x="2894040" y="1980720"/>
            <a:chExt cx="231840" cy="2745360"/>
          </a:xfrm>
        </p:grpSpPr>
        <p:sp>
          <p:nvSpPr>
            <p:cNvPr id="671" name="Straight Connector 28"/>
            <p:cNvSpPr/>
            <p:nvPr/>
          </p:nvSpPr>
          <p:spPr>
            <a:xfrm flipV="1">
              <a:off x="3124440" y="3201840"/>
              <a:ext cx="1440" cy="152424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Straight Connector 30"/>
            <p:cNvSpPr/>
            <p:nvPr/>
          </p:nvSpPr>
          <p:spPr>
            <a:xfrm flipV="1">
              <a:off x="2894040" y="1980720"/>
              <a:ext cx="1440" cy="121932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Straight Connector 32"/>
            <p:cNvSpPr/>
            <p:nvPr/>
          </p:nvSpPr>
          <p:spPr>
            <a:xfrm>
              <a:off x="2895480" y="3200400"/>
              <a:ext cx="228960" cy="144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Text Box 35"/>
          <p:cNvSpPr/>
          <p:nvPr/>
        </p:nvSpPr>
        <p:spPr>
          <a:xfrm>
            <a:off x="2895480" y="46483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4807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984807"/>
                </a:solidFill>
                <a:latin typeface="Times New Roman"/>
              </a:rPr>
              <a:t>AB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41"/>
          <p:cNvGrpSpPr/>
          <p:nvPr/>
        </p:nvGrpSpPr>
        <p:grpSpPr>
          <a:xfrm>
            <a:off x="3429000" y="1904760"/>
            <a:ext cx="3962520" cy="3101040"/>
            <a:chOff x="3429000" y="1904760"/>
            <a:chExt cx="3962520" cy="3101040"/>
          </a:xfrm>
        </p:grpSpPr>
        <p:sp>
          <p:nvSpPr>
            <p:cNvPr id="676" name="Line 21"/>
            <p:cNvSpPr/>
            <p:nvPr/>
          </p:nvSpPr>
          <p:spPr>
            <a:xfrm flipH="1" flipV="1">
              <a:off x="3429000" y="1904760"/>
              <a:ext cx="91440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33"/>
            <p:cNvSpPr/>
            <p:nvPr/>
          </p:nvSpPr>
          <p:spPr>
            <a:xfrm flipH="1" flipV="1">
              <a:off x="5486040" y="3276720"/>
              <a:ext cx="53316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34"/>
            <p:cNvSpPr/>
            <p:nvPr/>
          </p:nvSpPr>
          <p:spPr>
            <a:xfrm flipH="1" flipV="1">
              <a:off x="6019560" y="4114440"/>
              <a:ext cx="685800" cy="533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36"/>
            <p:cNvSpPr/>
            <p:nvPr/>
          </p:nvSpPr>
          <p:spPr>
            <a:xfrm>
              <a:off x="6096240" y="449568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cc3300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21"/>
            <p:cNvSpPr/>
            <p:nvPr/>
          </p:nvSpPr>
          <p:spPr>
            <a:xfrm flipH="1" flipV="1">
              <a:off x="4343040" y="2514600"/>
              <a:ext cx="1143000" cy="761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Demand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38"/>
          <p:cNvSpPr/>
          <p:nvPr/>
        </p:nvSpPr>
        <p:spPr>
          <a:xfrm>
            <a:off x="3633840" y="1170000"/>
            <a:ext cx="507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Market demand is the horizontal summation of all individual dem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565B31C-290C-4ED0-BFBA-09D106483D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ooter Placeholder 3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4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11811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the weekly demand for soy milk by three people in a very small market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alculate market demand at each price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558720" y="2660760"/>
          <a:ext cx="8077320" cy="36129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 b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9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AC8B91C-3124-459A-89E7-711E75941F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Introduc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concept of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concept of suppl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term marke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the concept of equilibrium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3DBBE2F-F502-429A-B964-91A532AE72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1811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the weekly demand for soy milk by three people in a very small market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alculate market demand at each price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558720" y="2660760"/>
          <a:ext cx="8077320" cy="36129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 b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Text Box 51"/>
          <p:cNvSpPr/>
          <p:nvPr/>
        </p:nvSpPr>
        <p:spPr>
          <a:xfrm>
            <a:off x="7556400" y="374652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1"/>
          <p:cNvSpPr/>
          <p:nvPr/>
        </p:nvSpPr>
        <p:spPr>
          <a:xfrm>
            <a:off x="3750120" y="3683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3"/>
          <p:cNvSpPr/>
          <p:nvPr/>
        </p:nvSpPr>
        <p:spPr>
          <a:xfrm>
            <a:off x="5451840" y="3683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14"/>
          <p:cNvSpPr/>
          <p:nvPr/>
        </p:nvSpPr>
        <p:spPr>
          <a:xfrm>
            <a:off x="7064640" y="3720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51"/>
          <p:cNvSpPr/>
          <p:nvPr/>
        </p:nvSpPr>
        <p:spPr>
          <a:xfrm>
            <a:off x="7556400" y="428004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1"/>
          <p:cNvSpPr/>
          <p:nvPr/>
        </p:nvSpPr>
        <p:spPr>
          <a:xfrm>
            <a:off x="7569360" y="48132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1"/>
          <p:cNvSpPr/>
          <p:nvPr/>
        </p:nvSpPr>
        <p:spPr>
          <a:xfrm>
            <a:off x="7543800" y="532116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1"/>
          <p:cNvSpPr/>
          <p:nvPr/>
        </p:nvSpPr>
        <p:spPr>
          <a:xfrm>
            <a:off x="7556400" y="581652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0E6BE00-87D1-4724-8C27-B65353848D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producers are willing and able to suppl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B2157CF-593E-46C0-B385-F5D11F4087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596880" y="1587240"/>
            <a:ext cx="815328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pply Schedul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table showing the various </a:t>
            </a: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quantities supplied p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eriod of time at different price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pply Curv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 representation of the supply schedu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18B6ABA-7561-4011-8FB2-41869C0130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939960" y="1917720"/>
          <a:ext cx="7238880" cy="347508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Per 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Supplied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ses per mon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ED5F7BD-2DAA-40D2-BB25-833249697D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5486400" y="1371600"/>
          <a:ext cx="2743200" cy="27432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3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traight Connector 26"/>
          <p:cNvSpPr/>
          <p:nvPr/>
        </p:nvSpPr>
        <p:spPr>
          <a:xfrm>
            <a:off x="1539720" y="3576600"/>
            <a:ext cx="822600" cy="1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28"/>
          <p:cNvSpPr/>
          <p:nvPr/>
        </p:nvSpPr>
        <p:spPr>
          <a:xfrm flipH="1">
            <a:off x="2358720" y="3565440"/>
            <a:ext cx="4680" cy="21574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8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26"/>
          <p:cNvSpPr/>
          <p:nvPr/>
        </p:nvSpPr>
        <p:spPr>
          <a:xfrm flipV="1">
            <a:off x="1546200" y="3156120"/>
            <a:ext cx="1268280" cy="10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28"/>
          <p:cNvSpPr/>
          <p:nvPr/>
        </p:nvSpPr>
        <p:spPr>
          <a:xfrm flipH="1">
            <a:off x="2803320" y="3181320"/>
            <a:ext cx="6120" cy="2554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40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traight Connector 26"/>
          <p:cNvSpPr/>
          <p:nvPr/>
        </p:nvSpPr>
        <p:spPr>
          <a:xfrm flipV="1">
            <a:off x="1554120" y="2751120"/>
            <a:ext cx="1690560" cy="158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traight Connector 28"/>
          <p:cNvSpPr/>
          <p:nvPr/>
        </p:nvSpPr>
        <p:spPr>
          <a:xfrm>
            <a:off x="3234600" y="2774880"/>
            <a:ext cx="20520" cy="29527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4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6" name="Straight Arrow Connector 47"/>
          <p:cNvCxnSpPr/>
          <p:nvPr/>
        </p:nvCxnSpPr>
        <p:spPr>
          <a:xfrm flipH="1">
            <a:off x="2560680" y="2099160"/>
            <a:ext cx="2835720" cy="1446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47" name="Rectangle 49"/>
          <p:cNvSpPr/>
          <p:nvPr/>
        </p:nvSpPr>
        <p:spPr>
          <a:xfrm>
            <a:off x="5486400" y="1827360"/>
            <a:ext cx="2724120" cy="46656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0"/>
          <p:cNvSpPr/>
          <p:nvPr/>
        </p:nvSpPr>
        <p:spPr>
          <a:xfrm>
            <a:off x="5486400" y="2268360"/>
            <a:ext cx="272556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Straight Arrow Connector 51"/>
          <p:cNvCxnSpPr/>
          <p:nvPr/>
        </p:nvCxnSpPr>
        <p:spPr>
          <a:xfrm flipH="1">
            <a:off x="3036240" y="2539080"/>
            <a:ext cx="2367720" cy="61668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50" name="Rectangle 55"/>
          <p:cNvSpPr/>
          <p:nvPr/>
        </p:nvSpPr>
        <p:spPr>
          <a:xfrm>
            <a:off x="5479920" y="2732040"/>
            <a:ext cx="2743200" cy="45900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1" name="Straight Arrow Connector 56"/>
          <p:cNvCxnSpPr/>
          <p:nvPr/>
        </p:nvCxnSpPr>
        <p:spPr>
          <a:xfrm flipH="1" flipV="1">
            <a:off x="3450600" y="2790360"/>
            <a:ext cx="1959480" cy="20088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52" name="Slide Number Placeholder 3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782FAF3-FEA2-420F-90CA-13C88C7B99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oter Placeholder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3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Line 5"/>
          <p:cNvSpPr/>
          <p:nvPr/>
        </p:nvSpPr>
        <p:spPr>
          <a:xfrm flipH="1">
            <a:off x="2098440" y="2496960"/>
            <a:ext cx="1415880" cy="136692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7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Straight Arrow Connector 51"/>
          <p:cNvCxnSpPr/>
          <p:nvPr/>
        </p:nvCxnSpPr>
        <p:spPr>
          <a:xfrm flipH="1" flipV="1">
            <a:off x="3521880" y="2607840"/>
            <a:ext cx="421560" cy="3499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72" name="TextBox 33"/>
          <p:cNvSpPr/>
          <p:nvPr/>
        </p:nvSpPr>
        <p:spPr>
          <a:xfrm>
            <a:off x="3897720" y="2776680"/>
            <a:ext cx="23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pply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32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34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3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F8E034D-A88A-46E8-AAA0-CB94D6EA57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ooter Placeholder 2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Line 5"/>
          <p:cNvSpPr/>
          <p:nvPr/>
        </p:nvSpPr>
        <p:spPr>
          <a:xfrm flipH="1">
            <a:off x="2098440" y="2496960"/>
            <a:ext cx="1415880" cy="136692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1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32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34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3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Rounded Rectangle 23"/>
          <p:cNvGrpSpPr/>
          <p:nvPr/>
        </p:nvGrpSpPr>
        <p:grpSpPr>
          <a:xfrm>
            <a:off x="4511520" y="1932120"/>
            <a:ext cx="3407040" cy="2279520"/>
            <a:chOff x="4511520" y="1932120"/>
            <a:chExt cx="3407040" cy="2279520"/>
          </a:xfrm>
        </p:grpSpPr>
        <p:pic>
          <p:nvPicPr>
            <p:cNvPr id="799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4511520" y="1932120"/>
              <a:ext cx="340704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4676760" y="2075040"/>
              <a:ext cx="3040200" cy="19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price increases, quantity supplied (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) increas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vement is along an existing supply l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Down Arrow 28"/>
          <p:cNvSpPr/>
          <p:nvPr/>
        </p:nvSpPr>
        <p:spPr>
          <a:xfrm rot="10800000">
            <a:off x="495000" y="314928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2" name="Straight Arrow Connector 29"/>
          <p:cNvCxnSpPr/>
          <p:nvPr/>
        </p:nvCxnSpPr>
        <p:spPr>
          <a:xfrm flipV="1">
            <a:off x="2095200" y="2920680"/>
            <a:ext cx="445320" cy="3945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03" name="Down Arrow 30"/>
          <p:cNvSpPr/>
          <p:nvPr/>
        </p:nvSpPr>
        <p:spPr>
          <a:xfrm rot="16200000">
            <a:off x="2436840" y="518292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6"/>
          <p:cNvSpPr/>
          <p:nvPr/>
        </p:nvSpPr>
        <p:spPr>
          <a:xfrm>
            <a:off x="2391480" y="3606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000600" y="3098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276FE5A-9FC7-477E-AF38-8FB581D0B1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ooter Placeholder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3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Supply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Up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liers are motivated by profi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er price means more profit, more suppliers are willing to produce the product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rise as more is produced, so higher prices required to supply mor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2F673AC-6E2B-4F69-97E0-6F4FB46FD1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supply from all producers of a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rizontal summation of each individual producer’s supply curv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rs are all making a similar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umers have no preference as to which supplier or product they u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1541BAA-AB74-484A-A4B7-C0D161031A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Supply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1031760" y="1417680"/>
          <a:ext cx="7123320" cy="4983120"/>
        </p:xfrm>
        <a:graphic>
          <a:graphicData uri="http://schemas.openxmlformats.org/drawingml/2006/table">
            <a:tbl>
              <a:tblPr/>
              <a:tblGrid>
                <a:gridCol w="1700280"/>
                <a:gridCol w="1887480"/>
                <a:gridCol w="1675080"/>
                <a:gridCol w="18604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suppli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bb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Bre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TextBox 3"/>
          <p:cNvSpPr/>
          <p:nvPr/>
        </p:nvSpPr>
        <p:spPr>
          <a:xfrm>
            <a:off x="4823280" y="2960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4"/>
          <p:cNvSpPr/>
          <p:nvPr/>
        </p:nvSpPr>
        <p:spPr>
          <a:xfrm>
            <a:off x="6639120" y="2987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214E3B9-C611-4EEC-9AAA-5E1D16C737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Introduc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causes and effects of a change in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causes and effects of a change in suppl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demand and supply determine price and quantity trad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A927594-CB02-41DE-92BE-265E7FA324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 Box 2"/>
          <p:cNvSpPr/>
          <p:nvPr/>
        </p:nvSpPr>
        <p:spPr>
          <a:xfrm>
            <a:off x="1219320" y="1828800"/>
            <a:ext cx="5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"/>
          <p:cNvSpPr/>
          <p:nvPr/>
        </p:nvSpPr>
        <p:spPr>
          <a:xfrm>
            <a:off x="7373880" y="59436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4"/>
          <p:cNvSpPr/>
          <p:nvPr/>
        </p:nvSpPr>
        <p:spPr>
          <a:xfrm>
            <a:off x="2362320" y="167652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5"/>
          <p:cNvSpPr/>
          <p:nvPr/>
        </p:nvSpPr>
        <p:spPr>
          <a:xfrm>
            <a:off x="2362320" y="5943600"/>
            <a:ext cx="464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6"/>
          <p:cNvSpPr/>
          <p:nvPr/>
        </p:nvSpPr>
        <p:spPr>
          <a:xfrm>
            <a:off x="2211480" y="5943600"/>
            <a:ext cx="51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2    4    6    8    10   12   14   16   18  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8"/>
          <p:cNvSpPr/>
          <p:nvPr/>
        </p:nvSpPr>
        <p:spPr>
          <a:xfrm flipH="1">
            <a:off x="2819520" y="1981080"/>
            <a:ext cx="838080" cy="24386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3"/>
          <p:cNvSpPr/>
          <p:nvPr/>
        </p:nvSpPr>
        <p:spPr>
          <a:xfrm>
            <a:off x="3733920" y="15955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OB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7"/>
          <p:cNvSpPr/>
          <p:nvPr/>
        </p:nvSpPr>
        <p:spPr>
          <a:xfrm>
            <a:off x="1769040" y="4191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1769040" y="3562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9"/>
          <p:cNvSpPr/>
          <p:nvPr/>
        </p:nvSpPr>
        <p:spPr>
          <a:xfrm>
            <a:off x="1769040" y="2952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769040" y="1752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37"/>
          <p:cNvSpPr/>
          <p:nvPr/>
        </p:nvSpPr>
        <p:spPr>
          <a:xfrm flipV="1">
            <a:off x="2209680" y="510516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38"/>
          <p:cNvSpPr/>
          <p:nvPr/>
        </p:nvSpPr>
        <p:spPr>
          <a:xfrm flipV="1">
            <a:off x="2209680" y="518112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0"/>
          <p:cNvSpPr/>
          <p:nvPr/>
        </p:nvSpPr>
        <p:spPr>
          <a:xfrm>
            <a:off x="1769040" y="236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39"/>
          <p:cNvGrpSpPr/>
          <p:nvPr/>
        </p:nvGrpSpPr>
        <p:grpSpPr>
          <a:xfrm>
            <a:off x="3657240" y="1523880"/>
            <a:ext cx="3200760" cy="2895840"/>
            <a:chOff x="3657240" y="1523880"/>
            <a:chExt cx="3200760" cy="2895840"/>
          </a:xfrm>
        </p:grpSpPr>
        <p:sp>
          <p:nvSpPr>
            <p:cNvPr id="841" name="Text Box 35"/>
            <p:cNvSpPr/>
            <p:nvPr/>
          </p:nvSpPr>
          <p:spPr>
            <a:xfrm>
              <a:off x="5638680" y="15238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8080"/>
                  </a:solidFill>
                  <a:latin typeface="Times New Roman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32"/>
            <p:cNvSpPr/>
            <p:nvPr/>
          </p:nvSpPr>
          <p:spPr>
            <a:xfrm flipH="1">
              <a:off x="3657240" y="1981080"/>
              <a:ext cx="2667240" cy="2438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Box 37"/>
            <p:cNvSpPr/>
            <p:nvPr/>
          </p:nvSpPr>
          <p:spPr>
            <a:xfrm>
              <a:off x="5029200" y="15238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40"/>
          <p:cNvGrpSpPr/>
          <p:nvPr/>
        </p:nvGrpSpPr>
        <p:grpSpPr>
          <a:xfrm>
            <a:off x="4114800" y="1487520"/>
            <a:ext cx="4724280" cy="2932200"/>
            <a:chOff x="4114800" y="1487520"/>
            <a:chExt cx="4724280" cy="2932200"/>
          </a:xfrm>
        </p:grpSpPr>
        <p:sp>
          <p:nvSpPr>
            <p:cNvPr id="845" name="Line 34"/>
            <p:cNvSpPr/>
            <p:nvPr/>
          </p:nvSpPr>
          <p:spPr>
            <a:xfrm flipH="1">
              <a:off x="4114800" y="2057400"/>
              <a:ext cx="3657600" cy="2362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 Box 36"/>
            <p:cNvSpPr/>
            <p:nvPr/>
          </p:nvSpPr>
          <p:spPr>
            <a:xfrm>
              <a:off x="7543800" y="152424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cc3300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38"/>
            <p:cNvSpPr/>
            <p:nvPr/>
          </p:nvSpPr>
          <p:spPr>
            <a:xfrm>
              <a:off x="7010280" y="1487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Supply Cur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7"/>
          <p:cNvSpPr/>
          <p:nvPr/>
        </p:nvSpPr>
        <p:spPr>
          <a:xfrm>
            <a:off x="3398760" y="4646520"/>
            <a:ext cx="507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Market supply is the total quantity of all producers at each p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ooter Placeholder 2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291D9BB-2B03-4F7D-8ED3-1A21952372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57200" y="1574280"/>
            <a:ext cx="822960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chanism that allows buyers and sellers to exchange products or serv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quilibrium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oint where quantity demanded equals quantity suppli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is neither a shortage nor a surplu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Rounded Rectangle 3"/>
          <p:cNvGrpSpPr/>
          <p:nvPr/>
        </p:nvGrpSpPr>
        <p:grpSpPr>
          <a:xfrm>
            <a:off x="3365640" y="5162400"/>
            <a:ext cx="2419200" cy="1019160"/>
            <a:chOff x="3365640" y="5162400"/>
            <a:chExt cx="2419200" cy="1019160"/>
          </a:xfrm>
        </p:grpSpPr>
        <p:pic>
          <p:nvPicPr>
            <p:cNvPr id="856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3365640" y="5162400"/>
              <a:ext cx="24192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"/>
            <p:cNvSpPr/>
            <p:nvPr/>
          </p:nvSpPr>
          <p:spPr>
            <a:xfrm>
              <a:off x="3468600" y="5246640"/>
              <a:ext cx="221796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Q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alinga"/>
                </a:rPr>
                <a:t>D</a:t>
              </a: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 = Q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alinga"/>
                </a:rPr>
                <a:t>S</a:t>
              </a: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D02D973-DE28-4B18-9394-BC95F792CF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"/>
          <p:cNvSpPr/>
          <p:nvPr/>
        </p:nvSpPr>
        <p:spPr>
          <a:xfrm>
            <a:off x="8065080" y="1494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. 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rplu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mount by which quantity supplied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great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an quantity demand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curs 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rices above equilibriu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hortag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mount by which quantity supplied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an quantity demand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curs 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rices below equilibriu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7E8633D-CCA8-45D3-8FC0-6FA20714C2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755640" y="1417680"/>
          <a:ext cx="7709040" cy="4983120"/>
        </p:xfrm>
        <a:graphic>
          <a:graphicData uri="http://schemas.openxmlformats.org/drawingml/2006/table">
            <a:tbl>
              <a:tblPr/>
              <a:tblGrid>
                <a:gridCol w="1838160"/>
                <a:gridCol w="1787760"/>
                <a:gridCol w="1913040"/>
                <a:gridCol w="2170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suppli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/ Surpl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8" name="Text Box 51"/>
          <p:cNvSpPr/>
          <p:nvPr/>
        </p:nvSpPr>
        <p:spPr>
          <a:xfrm>
            <a:off x="6934320" y="3011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7"/>
          <p:cNvSpPr/>
          <p:nvPr/>
        </p:nvSpPr>
        <p:spPr>
          <a:xfrm>
            <a:off x="4642560" y="2820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8"/>
          <p:cNvSpPr/>
          <p:nvPr/>
        </p:nvSpPr>
        <p:spPr>
          <a:xfrm>
            <a:off x="6386760" y="3002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51"/>
          <p:cNvSpPr/>
          <p:nvPr/>
        </p:nvSpPr>
        <p:spPr>
          <a:xfrm>
            <a:off x="7023240" y="3662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51"/>
          <p:cNvSpPr/>
          <p:nvPr/>
        </p:nvSpPr>
        <p:spPr>
          <a:xfrm>
            <a:off x="7224840" y="435456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51"/>
          <p:cNvSpPr/>
          <p:nvPr/>
        </p:nvSpPr>
        <p:spPr>
          <a:xfrm>
            <a:off x="6862680" y="50450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51"/>
          <p:cNvSpPr/>
          <p:nvPr/>
        </p:nvSpPr>
        <p:spPr>
          <a:xfrm>
            <a:off x="6853320" y="5715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lide Number Placeholder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2969E15-3F15-4AA5-8F7A-5323B47E0F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traight Connector 28"/>
          <p:cNvSpPr/>
          <p:nvPr/>
        </p:nvSpPr>
        <p:spPr>
          <a:xfrm flipH="1" flipV="1">
            <a:off x="1990800" y="3482640"/>
            <a:ext cx="2187360" cy="4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8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834C063-884A-4750-8929-4531C3902AD1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28"/>
          <p:cNvSpPr/>
          <p:nvPr/>
        </p:nvSpPr>
        <p:spPr>
          <a:xfrm flipH="1">
            <a:off x="4176720" y="3646440"/>
            <a:ext cx="1440" cy="20876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Rounded Rectangle 21"/>
          <p:cNvGrpSpPr/>
          <p:nvPr/>
        </p:nvGrpSpPr>
        <p:grpSpPr>
          <a:xfrm>
            <a:off x="5694480" y="2481120"/>
            <a:ext cx="2747880" cy="1462320"/>
            <a:chOff x="5694480" y="2481120"/>
            <a:chExt cx="2747880" cy="1462320"/>
          </a:xfrm>
        </p:grpSpPr>
        <p:pic>
          <p:nvPicPr>
            <p:cNvPr id="891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94480" y="2481120"/>
              <a:ext cx="274788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818320" y="2585880"/>
              <a:ext cx="24843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 market is in equilibrium when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=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18"/>
          <p:cNvSpPr/>
          <p:nvPr/>
        </p:nvSpPr>
        <p:spPr>
          <a:xfrm>
            <a:off x="4068720" y="335772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1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ooter Placeholder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Shortag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9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7CF29CB-B9DF-4FD8-8865-5F9F91A572DC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Rounded Rectangle 21"/>
          <p:cNvGrpSpPr/>
          <p:nvPr/>
        </p:nvGrpSpPr>
        <p:grpSpPr>
          <a:xfrm>
            <a:off x="5681520" y="2517840"/>
            <a:ext cx="2955960" cy="1871640"/>
            <a:chOff x="5681520" y="2517840"/>
            <a:chExt cx="2955960" cy="1871640"/>
          </a:xfrm>
        </p:grpSpPr>
        <p:pic>
          <p:nvPicPr>
            <p:cNvPr id="909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81520" y="2517840"/>
              <a:ext cx="295596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5827680" y="2638440"/>
              <a:ext cx="2666880" cy="15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t a price lower than equilibrium,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&lt;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re is a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short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28"/>
          <p:cNvSpPr/>
          <p:nvPr/>
        </p:nvSpPr>
        <p:spPr>
          <a:xfrm flipH="1" flipV="1">
            <a:off x="1973160" y="4199040"/>
            <a:ext cx="290664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28"/>
          <p:cNvSpPr/>
          <p:nvPr/>
        </p:nvSpPr>
        <p:spPr>
          <a:xfrm>
            <a:off x="3433680" y="4178160"/>
            <a:ext cx="12960" cy="1579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28"/>
          <p:cNvSpPr/>
          <p:nvPr/>
        </p:nvSpPr>
        <p:spPr>
          <a:xfrm>
            <a:off x="4925880" y="4203720"/>
            <a:ext cx="12960" cy="1579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3"/>
          <p:cNvSpPr/>
          <p:nvPr/>
        </p:nvSpPr>
        <p:spPr>
          <a:xfrm>
            <a:off x="1215360" y="3921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4"/>
          <p:cNvSpPr/>
          <p:nvPr/>
        </p:nvSpPr>
        <p:spPr>
          <a:xfrm>
            <a:off x="325620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4"/>
          <p:cNvSpPr/>
          <p:nvPr/>
        </p:nvSpPr>
        <p:spPr>
          <a:xfrm>
            <a:off x="471708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4"/>
          <p:cNvSpPr/>
          <p:nvPr/>
        </p:nvSpPr>
        <p:spPr>
          <a:xfrm>
            <a:off x="4681440" y="6099120"/>
            <a:ext cx="7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4"/>
          <p:cNvSpPr/>
          <p:nvPr/>
        </p:nvSpPr>
        <p:spPr>
          <a:xfrm>
            <a:off x="3105000" y="608796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33"/>
          <p:cNvSpPr/>
          <p:nvPr/>
        </p:nvSpPr>
        <p:spPr>
          <a:xfrm>
            <a:off x="4805280" y="40734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18"/>
          <p:cNvSpPr/>
          <p:nvPr/>
        </p:nvSpPr>
        <p:spPr>
          <a:xfrm>
            <a:off x="3324240" y="405936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eft-Right Arrow 34"/>
          <p:cNvSpPr/>
          <p:nvPr/>
        </p:nvSpPr>
        <p:spPr>
          <a:xfrm>
            <a:off x="3476520" y="4551480"/>
            <a:ext cx="1403280" cy="627120"/>
          </a:xfrm>
          <a:prstGeom prst="leftRightArrow">
            <a:avLst>
              <a:gd name="adj1" fmla="val 50000"/>
              <a:gd name="adj2" fmla="val 49995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ooter Placeholder 15"/>
          <p:cNvSpPr/>
          <p:nvPr/>
        </p:nvSpPr>
        <p:spPr>
          <a:xfrm>
            <a:off x="313524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5AAA190-0C1C-438F-86DA-5A36D8F777E5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Rounded Rectangle 21"/>
          <p:cNvGrpSpPr/>
          <p:nvPr/>
        </p:nvGrpSpPr>
        <p:grpSpPr>
          <a:xfrm>
            <a:off x="5681520" y="2517840"/>
            <a:ext cx="2955960" cy="1871640"/>
            <a:chOff x="5681520" y="2517840"/>
            <a:chExt cx="2955960" cy="1871640"/>
          </a:xfrm>
        </p:grpSpPr>
        <p:pic>
          <p:nvPicPr>
            <p:cNvPr id="937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81520" y="2517840"/>
              <a:ext cx="295596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"/>
            <p:cNvSpPr/>
            <p:nvPr/>
          </p:nvSpPr>
          <p:spPr>
            <a:xfrm>
              <a:off x="5827680" y="2638440"/>
              <a:ext cx="2666880" cy="15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t a price higher than equilibrium,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&gt;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re is a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surpl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 flipH="1" flipV="1">
            <a:off x="2014560" y="2614680"/>
            <a:ext cx="304632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8"/>
          <p:cNvSpPr/>
          <p:nvPr/>
        </p:nvSpPr>
        <p:spPr>
          <a:xfrm>
            <a:off x="3285360" y="2604960"/>
            <a:ext cx="1800" cy="31435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28"/>
          <p:cNvSpPr/>
          <p:nvPr/>
        </p:nvSpPr>
        <p:spPr>
          <a:xfrm>
            <a:off x="5071320" y="2616120"/>
            <a:ext cx="36360" cy="31464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33"/>
          <p:cNvSpPr/>
          <p:nvPr/>
        </p:nvSpPr>
        <p:spPr>
          <a:xfrm>
            <a:off x="4954680" y="25002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18"/>
          <p:cNvSpPr/>
          <p:nvPr/>
        </p:nvSpPr>
        <p:spPr>
          <a:xfrm>
            <a:off x="3174840" y="2486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eft-Right Arrow 34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ooter Placeholder 15"/>
          <p:cNvSpPr/>
          <p:nvPr/>
        </p:nvSpPr>
        <p:spPr>
          <a:xfrm>
            <a:off x="313524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4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demand and supply for a product.  Calculate the surplus or shortage at each price.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1230480" y="2470320"/>
          <a:ext cx="6781680" cy="3620880"/>
        </p:xfrm>
        <a:graphic>
          <a:graphicData uri="http://schemas.openxmlformats.org/drawingml/2006/table">
            <a:tbl>
              <a:tblPr/>
              <a:tblGrid>
                <a:gridCol w="1447560"/>
                <a:gridCol w="1828800"/>
                <a:gridCol w="1676520"/>
                <a:gridCol w="1828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plu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6791014-5997-4A74-B03E-0D1416858C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demand and supply for a product.  Calculate the surplus or shortage at each price.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1230480" y="2470320"/>
          <a:ext cx="6781680" cy="3620880"/>
        </p:xfrm>
        <a:graphic>
          <a:graphicData uri="http://schemas.openxmlformats.org/drawingml/2006/table">
            <a:tbl>
              <a:tblPr/>
              <a:tblGrid>
                <a:gridCol w="1447560"/>
                <a:gridCol w="1828800"/>
                <a:gridCol w="1676520"/>
                <a:gridCol w="1828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plu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3" name="Text Box 51"/>
          <p:cNvSpPr/>
          <p:nvPr/>
        </p:nvSpPr>
        <p:spPr>
          <a:xfrm>
            <a:off x="6694560" y="35337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51"/>
          <p:cNvSpPr/>
          <p:nvPr/>
        </p:nvSpPr>
        <p:spPr>
          <a:xfrm>
            <a:off x="6676920" y="4057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1"/>
          <p:cNvSpPr/>
          <p:nvPr/>
        </p:nvSpPr>
        <p:spPr>
          <a:xfrm>
            <a:off x="6670800" y="457200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51"/>
          <p:cNvSpPr/>
          <p:nvPr/>
        </p:nvSpPr>
        <p:spPr>
          <a:xfrm>
            <a:off x="6999120" y="5092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51"/>
          <p:cNvSpPr/>
          <p:nvPr/>
        </p:nvSpPr>
        <p:spPr>
          <a:xfrm>
            <a:off x="6627960" y="561492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13EAD26-4C6D-41F0-91BB-232D3063AB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Adjustmen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57200" y="15620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When there is a Surplus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rs drop the price to sell excess stoc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price drops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demanded increase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supplied fall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 moves back to equilibrium price, quant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5438BEC-95F2-4CE9-90F1-22A6276B8C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2061720"/>
            <a:ext cx="82296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D280AE1-B0DC-40BA-A00B-EFDF526761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Adjustment -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5CB5C9E-60F1-4AAA-9C9B-8AB70DD23C79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traight Connector 28"/>
          <p:cNvSpPr/>
          <p:nvPr/>
        </p:nvSpPr>
        <p:spPr>
          <a:xfrm flipH="1" flipV="1">
            <a:off x="2014560" y="2614680"/>
            <a:ext cx="304632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traight Connector 28"/>
          <p:cNvSpPr/>
          <p:nvPr/>
        </p:nvSpPr>
        <p:spPr>
          <a:xfrm>
            <a:off x="3285360" y="2604960"/>
            <a:ext cx="1800" cy="31435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aight Connector 28"/>
          <p:cNvSpPr/>
          <p:nvPr/>
        </p:nvSpPr>
        <p:spPr>
          <a:xfrm>
            <a:off x="5071320" y="2616120"/>
            <a:ext cx="36360" cy="31464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33"/>
          <p:cNvSpPr/>
          <p:nvPr/>
        </p:nvSpPr>
        <p:spPr>
          <a:xfrm>
            <a:off x="4954680" y="25002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18"/>
          <p:cNvSpPr/>
          <p:nvPr/>
        </p:nvSpPr>
        <p:spPr>
          <a:xfrm>
            <a:off x="3174840" y="2486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eft-Right Arrow 34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Adjustment -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1150A3A-DB9C-4976-B1EB-AEEC8CF2B70F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Rounded Rectangle 21"/>
          <p:cNvGrpSpPr/>
          <p:nvPr/>
        </p:nvGrpSpPr>
        <p:grpSpPr>
          <a:xfrm>
            <a:off x="5602320" y="2004840"/>
            <a:ext cx="3316320" cy="2994120"/>
            <a:chOff x="5602320" y="2004840"/>
            <a:chExt cx="3316320" cy="2994120"/>
          </a:xfrm>
        </p:grpSpPr>
        <p:pic>
          <p:nvPicPr>
            <p:cNvPr id="1012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02320" y="2004840"/>
              <a:ext cx="331632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3" name=""/>
            <p:cNvSpPr/>
            <p:nvPr/>
          </p:nvSpPr>
          <p:spPr>
            <a:xfrm>
              <a:off x="5805360" y="2185920"/>
              <a:ext cx="2867040" cy="26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Sellers drop price to sell ex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Buyers buy more at lower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Sellers supply less at lower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Back to equilibrium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traight Connector 28"/>
          <p:cNvSpPr/>
          <p:nvPr/>
        </p:nvSpPr>
        <p:spPr>
          <a:xfrm flipH="1">
            <a:off x="2001960" y="3086280"/>
            <a:ext cx="2595600" cy="10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traight Connector 28"/>
          <p:cNvSpPr/>
          <p:nvPr/>
        </p:nvSpPr>
        <p:spPr>
          <a:xfrm flipH="1">
            <a:off x="3745080" y="3073320"/>
            <a:ext cx="1440" cy="268776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traight Connector 28"/>
          <p:cNvSpPr/>
          <p:nvPr/>
        </p:nvSpPr>
        <p:spPr>
          <a:xfrm>
            <a:off x="4571280" y="3086280"/>
            <a:ext cx="28440" cy="2689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eft-Right Arrow 34"/>
          <p:cNvSpPr/>
          <p:nvPr/>
        </p:nvSpPr>
        <p:spPr>
          <a:xfrm>
            <a:off x="3733920" y="4635360"/>
            <a:ext cx="850680" cy="470160"/>
          </a:xfrm>
          <a:prstGeom prst="leftRightArrow">
            <a:avLst>
              <a:gd name="adj1" fmla="val 50000"/>
              <a:gd name="adj2" fmla="val 49958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Down Arrow 36"/>
          <p:cNvSpPr/>
          <p:nvPr/>
        </p:nvSpPr>
        <p:spPr>
          <a:xfrm>
            <a:off x="3911760" y="2502000"/>
            <a:ext cx="546120" cy="495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6" name="Straight Arrow Connector 37"/>
          <p:cNvCxnSpPr/>
          <p:nvPr/>
        </p:nvCxnSpPr>
        <p:spPr>
          <a:xfrm flipH="1">
            <a:off x="4681080" y="2996280"/>
            <a:ext cx="411840" cy="384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1027" name="Straight Arrow Connector 39"/>
          <p:cNvCxnSpPr/>
          <p:nvPr/>
        </p:nvCxnSpPr>
        <p:spPr>
          <a:xfrm>
            <a:off x="3262680" y="2971440"/>
            <a:ext cx="445320" cy="4453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028" name="Oval 41"/>
          <p:cNvSpPr/>
          <p:nvPr/>
        </p:nvSpPr>
        <p:spPr>
          <a:xfrm>
            <a:off x="4078440" y="335124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eft-Right Arrow 43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3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Adjustmen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457200" y="15620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When there is a Shortage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ers bid up the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price rises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demanded decrease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supplied increas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 moves back to equilibrium price, quant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5A89F83-6560-4BEF-8636-36A6F24492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Increase in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38" name="Line 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"/>
          <p:cNvSpPr/>
          <p:nvPr/>
        </p:nvSpPr>
        <p:spPr>
          <a:xfrm flipH="1" flipV="1">
            <a:off x="4130280" y="2854440"/>
            <a:ext cx="1560600" cy="236376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15"/>
          <p:cNvSpPr/>
          <p:nvPr/>
        </p:nvSpPr>
        <p:spPr>
          <a:xfrm>
            <a:off x="3220560" y="2708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16"/>
          <p:cNvSpPr/>
          <p:nvPr/>
        </p:nvSpPr>
        <p:spPr>
          <a:xfrm>
            <a:off x="4311000" y="274176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8"/>
          <p:cNvSpPr/>
          <p:nvPr/>
        </p:nvSpPr>
        <p:spPr>
          <a:xfrm>
            <a:off x="3650400" y="5929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9"/>
          <p:cNvSpPr/>
          <p:nvPr/>
        </p:nvSpPr>
        <p:spPr>
          <a:xfrm>
            <a:off x="1117440" y="38671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17"/>
          <p:cNvSpPr/>
          <p:nvPr/>
        </p:nvSpPr>
        <p:spPr>
          <a:xfrm>
            <a:off x="471240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6" name="Straight Arrow Connector 27"/>
          <p:cNvCxnSpPr/>
          <p:nvPr/>
        </p:nvCxnSpPr>
        <p:spPr>
          <a:xfrm>
            <a:off x="1746360" y="4093920"/>
            <a:ext cx="4450320" cy="14760"/>
          </a:xfrm>
          <a:prstGeom prst="straightConnector1">
            <a:avLst/>
          </a:prstGeom>
          <a:ln w="31680">
            <a:solidFill>
              <a:srgbClr val="a6a6a6"/>
            </a:solidFill>
            <a:prstDash val="dash"/>
            <a:miter/>
            <a:tailEnd len="med" type="arrow" w="med"/>
          </a:ln>
        </p:spPr>
      </p:cxnSp>
      <p:cxnSp>
        <p:nvCxnSpPr>
          <p:cNvPr id="1047" name="Straight Arrow Connector 31"/>
          <p:cNvCxnSpPr>
            <a:endCxn id="1043" idx="0"/>
          </p:cNvCxnSpPr>
          <p:nvPr/>
        </p:nvCxnSpPr>
        <p:spPr>
          <a:xfrm flipH="1">
            <a:off x="3867840" y="4134960"/>
            <a:ext cx="9000" cy="1794600"/>
          </a:xfrm>
          <a:prstGeom prst="straightConnector1">
            <a:avLst/>
          </a:prstGeom>
          <a:ln w="25560">
            <a:solidFill>
              <a:srgbClr val="a6a6a6"/>
            </a:solidFill>
            <a:prstDash val="dash"/>
            <a:miter/>
            <a:tailEnd len="med" type="triangle" w="med"/>
          </a:ln>
        </p:spPr>
      </p:cxnSp>
      <p:cxnSp>
        <p:nvCxnSpPr>
          <p:cNvPr id="1048" name="Straight Arrow Connector 34"/>
          <p:cNvCxnSpPr/>
          <p:nvPr/>
        </p:nvCxnSpPr>
        <p:spPr>
          <a:xfrm>
            <a:off x="4926600" y="4135320"/>
            <a:ext cx="3960" cy="1782000"/>
          </a:xfrm>
          <a:prstGeom prst="straightConnector1">
            <a:avLst/>
          </a:prstGeom>
          <a:ln w="25560">
            <a:solidFill>
              <a:srgbClr val="a6a6a6"/>
            </a:solidFill>
            <a:prstDash val="dash"/>
            <a:miter/>
            <a:tailEnd len="med" type="triangle" w="med"/>
          </a:ln>
        </p:spPr>
      </p:cxnSp>
      <p:sp>
        <p:nvSpPr>
          <p:cNvPr id="1049" name="Text Box 19"/>
          <p:cNvSpPr/>
          <p:nvPr/>
        </p:nvSpPr>
        <p:spPr>
          <a:xfrm>
            <a:off x="905400" y="13716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19"/>
          <p:cNvSpPr/>
          <p:nvPr/>
        </p:nvSpPr>
        <p:spPr>
          <a:xfrm>
            <a:off x="6978960" y="57420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Rounded Rectangle 21"/>
          <p:cNvGrpSpPr/>
          <p:nvPr/>
        </p:nvGrpSpPr>
        <p:grpSpPr>
          <a:xfrm>
            <a:off x="5065560" y="1768320"/>
            <a:ext cx="3687840" cy="1870200"/>
            <a:chOff x="5065560" y="1768320"/>
            <a:chExt cx="3687840" cy="1870200"/>
          </a:xfrm>
        </p:grpSpPr>
        <p:pic>
          <p:nvPicPr>
            <p:cNvPr id="1052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065560" y="1768320"/>
              <a:ext cx="3687840" cy="18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3" name=""/>
            <p:cNvSpPr/>
            <p:nvPr/>
          </p:nvSpPr>
          <p:spPr>
            <a:xfrm>
              <a:off x="5216400" y="1889280"/>
              <a:ext cx="339732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re quantity is demanded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at each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caused by a factor other than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Down Arrow 23"/>
          <p:cNvSpPr/>
          <p:nvPr/>
        </p:nvSpPr>
        <p:spPr>
          <a:xfrm rot="16200000">
            <a:off x="3801960" y="3171240"/>
            <a:ext cx="368280" cy="4320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6"/>
          <p:cNvSpPr/>
          <p:nvPr/>
        </p:nvSpPr>
        <p:spPr>
          <a:xfrm flipH="1" flipV="1">
            <a:off x="3086280" y="2874960"/>
            <a:ext cx="1506240" cy="2341440"/>
          </a:xfrm>
          <a:prstGeom prst="line">
            <a:avLst/>
          </a:prstGeom>
          <a:ln cap="sq" w="57240">
            <a:solidFill>
              <a:srgbClr val="ff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6" name="Straight Arrow Connector 26"/>
          <p:cNvCxnSpPr/>
          <p:nvPr/>
        </p:nvCxnSpPr>
        <p:spPr>
          <a:xfrm flipV="1">
            <a:off x="1758600" y="4101480"/>
            <a:ext cx="2166120" cy="5400"/>
          </a:xfrm>
          <a:prstGeom prst="straightConnector1">
            <a:avLst/>
          </a:prstGeom>
          <a:ln w="31680">
            <a:solidFill>
              <a:srgbClr val="a6a6a6"/>
            </a:solidFill>
            <a:prstDash val="dash"/>
            <a:miter/>
            <a:tailEnd len="med" type="arrow" w="med"/>
          </a:ln>
        </p:spPr>
      </p:cxnSp>
      <p:sp>
        <p:nvSpPr>
          <p:cNvPr id="1057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493496D-728E-4EB4-8CDC-E4A760818DFF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1. Consumer preference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astes change, demand chang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2. Consumer income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ormal Produc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 more when income rises, less when income fall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nferior Produc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 more when income falls, less when income ris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F36C13A-BB42-414E-BB58-288AA39C9D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s are related if a change in the price of one product causes a change in demand for the other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wo types of related product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itut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ment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7AB90D7-68DC-4D14-BA7F-DCA19DC357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itute Product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milar products that can be substituted for each oth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 in price of one product causes increased demand for the related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40E6F91-668F-40C4-99D6-43D33B62C7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ary Product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nd to be bought togeth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 in price of one product causes a decrease in demand for related produc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9E6CCA0-66F9-4C60-8B7D-2BC5AE2B3D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57200" y="14475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4. </a:t>
            </a: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Expectations of future prices, income, availabilit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prices or incomes expected to rise, consumers buy mo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goods expected to be scarcer, buy more now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5. Population size, income, and age distribution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in population or incomes cause increase in deman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nges in age distribution affect demand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5595945-D500-4B05-BFF9-F44110F42F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 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368316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Market for pretzels: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complementary product, like beer, to cause the demand for pretzels to chang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substitute product, like nut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087" name=""/>
          <p:cNvGraphicFramePr/>
          <p:nvPr/>
        </p:nvGraphicFramePr>
        <p:xfrm>
          <a:off x="431640" y="1486080"/>
          <a:ext cx="8458200" cy="1828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51E93E4-6BED-4239-B5D4-E81DDF84B8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ill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b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be willing to purchase i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have ability to pay for i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8141794-CC52-43A3-ADCE-3C31680B0B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 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7200" y="368316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Market for pretzels: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complementary product, like beer, to cause the demand for pretzels to chang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substitute product, like nut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431640" y="1486080"/>
          <a:ext cx="8458200" cy="1828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4" name="TextBox 5"/>
          <p:cNvSpPr/>
          <p:nvPr/>
        </p:nvSpPr>
        <p:spPr>
          <a:xfrm>
            <a:off x="5549760" y="4795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ice of beer f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6"/>
          <p:cNvSpPr/>
          <p:nvPr/>
        </p:nvSpPr>
        <p:spPr>
          <a:xfrm>
            <a:off x="5067360" y="5613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ice of nuts 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7E3A236-E93C-44EE-97DE-B06B33C4F9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Kalinga"/>
              </a:rPr>
              <a:t>Adjustment to an Increase in Demand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EFD0884-D470-40F6-ADA6-F69421FD98F1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19"/>
          <p:cNvSpPr/>
          <p:nvPr/>
        </p:nvSpPr>
        <p:spPr>
          <a:xfrm>
            <a:off x="398304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20"/>
          <p:cNvSpPr/>
          <p:nvPr/>
        </p:nvSpPr>
        <p:spPr>
          <a:xfrm>
            <a:off x="527832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3"/>
          <p:cNvSpPr/>
          <p:nvPr/>
        </p:nvSpPr>
        <p:spPr>
          <a:xfrm>
            <a:off x="1768320" y="1447920"/>
            <a:ext cx="0" cy="4384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4"/>
          <p:cNvSpPr/>
          <p:nvPr/>
        </p:nvSpPr>
        <p:spPr>
          <a:xfrm flipV="1">
            <a:off x="1768320" y="5825880"/>
            <a:ext cx="5626080" cy="61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5"/>
          <p:cNvSpPr/>
          <p:nvPr/>
        </p:nvSpPr>
        <p:spPr>
          <a:xfrm>
            <a:off x="2133720" y="1828800"/>
            <a:ext cx="3911400" cy="387504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6"/>
          <p:cNvSpPr/>
          <p:nvPr/>
        </p:nvSpPr>
        <p:spPr>
          <a:xfrm flipV="1">
            <a:off x="2211480" y="2179440"/>
            <a:ext cx="4605120" cy="310500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7"/>
          <p:cNvSpPr/>
          <p:nvPr/>
        </p:nvSpPr>
        <p:spPr>
          <a:xfrm>
            <a:off x="3097080" y="1447920"/>
            <a:ext cx="3916440" cy="392112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8"/>
          <p:cNvSpPr/>
          <p:nvPr/>
        </p:nvSpPr>
        <p:spPr>
          <a:xfrm>
            <a:off x="7100280" y="5186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9"/>
          <p:cNvSpPr/>
          <p:nvPr/>
        </p:nvSpPr>
        <p:spPr>
          <a:xfrm>
            <a:off x="6902280" y="190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10"/>
          <p:cNvSpPr/>
          <p:nvPr/>
        </p:nvSpPr>
        <p:spPr>
          <a:xfrm>
            <a:off x="6033240" y="5262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5"/>
          <p:cNvSpPr/>
          <p:nvPr/>
        </p:nvSpPr>
        <p:spPr>
          <a:xfrm>
            <a:off x="4194000" y="3997440"/>
            <a:ext cx="0" cy="18270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6"/>
          <p:cNvSpPr/>
          <p:nvPr/>
        </p:nvSpPr>
        <p:spPr>
          <a:xfrm>
            <a:off x="5032440" y="3387600"/>
            <a:ext cx="0" cy="243540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8"/>
          <p:cNvSpPr/>
          <p:nvPr/>
        </p:nvSpPr>
        <p:spPr>
          <a:xfrm flipH="1">
            <a:off x="1755360" y="3387600"/>
            <a:ext cx="318924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21"/>
          <p:cNvSpPr/>
          <p:nvPr/>
        </p:nvSpPr>
        <p:spPr>
          <a:xfrm>
            <a:off x="1064520" y="3049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22"/>
          <p:cNvSpPr/>
          <p:nvPr/>
        </p:nvSpPr>
        <p:spPr>
          <a:xfrm>
            <a:off x="1096920" y="3691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24"/>
          <p:cNvSpPr/>
          <p:nvPr/>
        </p:nvSpPr>
        <p:spPr>
          <a:xfrm flipV="1">
            <a:off x="3427560" y="2900520"/>
            <a:ext cx="992160" cy="1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29"/>
          <p:cNvSpPr/>
          <p:nvPr/>
        </p:nvSpPr>
        <p:spPr>
          <a:xfrm>
            <a:off x="5486400" y="3886200"/>
            <a:ext cx="0" cy="190512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30"/>
          <p:cNvSpPr/>
          <p:nvPr/>
        </p:nvSpPr>
        <p:spPr>
          <a:xfrm>
            <a:off x="482112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utoShape 33"/>
          <p:cNvSpPr/>
          <p:nvPr/>
        </p:nvSpPr>
        <p:spPr>
          <a:xfrm rot="16200000">
            <a:off x="4647960" y="358128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36"/>
          <p:cNvSpPr/>
          <p:nvPr/>
        </p:nvSpPr>
        <p:spPr>
          <a:xfrm>
            <a:off x="4952880" y="3276720"/>
            <a:ext cx="152640" cy="15228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37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38"/>
          <p:cNvSpPr/>
          <p:nvPr/>
        </p:nvSpPr>
        <p:spPr>
          <a:xfrm>
            <a:off x="4114800" y="3809880"/>
            <a:ext cx="152280" cy="15264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traight Connector 30"/>
          <p:cNvSpPr/>
          <p:nvPr/>
        </p:nvSpPr>
        <p:spPr>
          <a:xfrm flipH="1" flipV="1">
            <a:off x="1830240" y="3895200"/>
            <a:ext cx="2362320" cy="1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traight Connector 32"/>
          <p:cNvSpPr/>
          <p:nvPr/>
        </p:nvSpPr>
        <p:spPr>
          <a:xfrm>
            <a:off x="4267080" y="3886200"/>
            <a:ext cx="11430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Rounded Rectangle 29"/>
          <p:cNvGrpSpPr/>
          <p:nvPr/>
        </p:nvGrpSpPr>
        <p:grpSpPr>
          <a:xfrm>
            <a:off x="6132600" y="2693880"/>
            <a:ext cx="2871720" cy="1871640"/>
            <a:chOff x="6132600" y="2693880"/>
            <a:chExt cx="2871720" cy="1871640"/>
          </a:xfrm>
        </p:grpSpPr>
        <p:pic>
          <p:nvPicPr>
            <p:cNvPr id="1126" name="Rounded Rectangle 29" descr=""/>
            <p:cNvPicPr/>
            <p:nvPr/>
          </p:nvPicPr>
          <p:blipFill>
            <a:blip r:embed="rId1"/>
            <a:stretch/>
          </p:blipFill>
          <p:spPr>
            <a:xfrm>
              <a:off x="6132600" y="2693880"/>
              <a:ext cx="28717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6283440" y="2816280"/>
              <a:ext cx="253368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demand increases, a shortage is created and price ris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Text Box 34"/>
          <p:cNvSpPr/>
          <p:nvPr/>
        </p:nvSpPr>
        <p:spPr>
          <a:xfrm>
            <a:off x="4368960" y="4356000"/>
            <a:ext cx="1091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h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24"/>
          <p:cNvSpPr/>
          <p:nvPr/>
        </p:nvSpPr>
        <p:spPr>
          <a:xfrm flipV="1">
            <a:off x="888840" y="3286080"/>
            <a:ext cx="14400" cy="68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31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0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500"/>
                            </p:stCondLst>
                            <p:childTnLst>
                              <p:par>
                                <p:cTn id="6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Kalinga"/>
              </a:rPr>
              <a:t>Adjustment to a Decrease in Demand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204895F-BBF7-4098-ACC7-6D1E1D371C98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3"/>
          <p:cNvSpPr/>
          <p:nvPr/>
        </p:nvSpPr>
        <p:spPr>
          <a:xfrm>
            <a:off x="3131280" y="566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4"/>
          <p:cNvSpPr/>
          <p:nvPr/>
        </p:nvSpPr>
        <p:spPr>
          <a:xfrm>
            <a:off x="4363920" y="566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5"/>
          <p:cNvSpPr/>
          <p:nvPr/>
        </p:nvSpPr>
        <p:spPr>
          <a:xfrm>
            <a:off x="1309680" y="1325520"/>
            <a:ext cx="0" cy="43848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6"/>
          <p:cNvSpPr/>
          <p:nvPr/>
        </p:nvSpPr>
        <p:spPr>
          <a:xfrm>
            <a:off x="1309680" y="5710320"/>
            <a:ext cx="5548320" cy="4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7"/>
          <p:cNvSpPr/>
          <p:nvPr/>
        </p:nvSpPr>
        <p:spPr>
          <a:xfrm>
            <a:off x="1576440" y="1600200"/>
            <a:ext cx="3911400" cy="387504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8"/>
          <p:cNvSpPr/>
          <p:nvPr/>
        </p:nvSpPr>
        <p:spPr>
          <a:xfrm flipV="1">
            <a:off x="1752480" y="2057040"/>
            <a:ext cx="4605480" cy="310500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9"/>
          <p:cNvSpPr/>
          <p:nvPr/>
        </p:nvSpPr>
        <p:spPr>
          <a:xfrm>
            <a:off x="2638440" y="1325520"/>
            <a:ext cx="3916440" cy="392112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0"/>
          <p:cNvSpPr/>
          <p:nvPr/>
        </p:nvSpPr>
        <p:spPr>
          <a:xfrm>
            <a:off x="6639840" y="5075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1"/>
          <p:cNvSpPr/>
          <p:nvPr/>
        </p:nvSpPr>
        <p:spPr>
          <a:xfrm>
            <a:off x="6443280" y="1787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12"/>
          <p:cNvSpPr/>
          <p:nvPr/>
        </p:nvSpPr>
        <p:spPr>
          <a:xfrm>
            <a:off x="5496840" y="5075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13"/>
          <p:cNvSpPr/>
          <p:nvPr/>
        </p:nvSpPr>
        <p:spPr>
          <a:xfrm>
            <a:off x="3811680" y="3875040"/>
            <a:ext cx="0" cy="182736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4"/>
          <p:cNvSpPr/>
          <p:nvPr/>
        </p:nvSpPr>
        <p:spPr>
          <a:xfrm>
            <a:off x="4573440" y="3265560"/>
            <a:ext cx="0" cy="24350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5"/>
          <p:cNvSpPr/>
          <p:nvPr/>
        </p:nvSpPr>
        <p:spPr>
          <a:xfrm flipH="1">
            <a:off x="1296720" y="3798720"/>
            <a:ext cx="239076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16"/>
          <p:cNvSpPr/>
          <p:nvPr/>
        </p:nvSpPr>
        <p:spPr>
          <a:xfrm flipH="1">
            <a:off x="1296720" y="3265560"/>
            <a:ext cx="3189240" cy="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17"/>
          <p:cNvSpPr/>
          <p:nvPr/>
        </p:nvSpPr>
        <p:spPr>
          <a:xfrm>
            <a:off x="627120" y="2927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18"/>
          <p:cNvSpPr/>
          <p:nvPr/>
        </p:nvSpPr>
        <p:spPr>
          <a:xfrm>
            <a:off x="611280" y="3568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19"/>
          <p:cNvSpPr/>
          <p:nvPr/>
        </p:nvSpPr>
        <p:spPr>
          <a:xfrm>
            <a:off x="2838600" y="2732040"/>
            <a:ext cx="106344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23"/>
          <p:cNvSpPr/>
          <p:nvPr/>
        </p:nvSpPr>
        <p:spPr>
          <a:xfrm>
            <a:off x="3276720" y="3276720"/>
            <a:ext cx="0" cy="24350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24"/>
          <p:cNvSpPr/>
          <p:nvPr/>
        </p:nvSpPr>
        <p:spPr>
          <a:xfrm>
            <a:off x="3558960" y="566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Rounded Rectangle 23"/>
          <p:cNvGrpSpPr/>
          <p:nvPr/>
        </p:nvGrpSpPr>
        <p:grpSpPr>
          <a:xfrm>
            <a:off x="6132600" y="2693880"/>
            <a:ext cx="2822400" cy="1871640"/>
            <a:chOff x="6132600" y="2693880"/>
            <a:chExt cx="2822400" cy="1871640"/>
          </a:xfrm>
        </p:grpSpPr>
        <p:pic>
          <p:nvPicPr>
            <p:cNvPr id="1154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6132600" y="2693880"/>
              <a:ext cx="282240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5" name=""/>
            <p:cNvSpPr/>
            <p:nvPr/>
          </p:nvSpPr>
          <p:spPr>
            <a:xfrm>
              <a:off x="6283440" y="2816280"/>
              <a:ext cx="253368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demand decreases, a surplus is created and price drop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Line 24"/>
          <p:cNvSpPr/>
          <p:nvPr/>
        </p:nvSpPr>
        <p:spPr>
          <a:xfrm flipH="1">
            <a:off x="439200" y="3157560"/>
            <a:ext cx="11160" cy="723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9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0" name="Rectangle 3"/>
          <p:cNvSpPr/>
          <p:nvPr/>
        </p:nvSpPr>
        <p:spPr>
          <a:xfrm>
            <a:off x="457200" y="1181160"/>
            <a:ext cx="84582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What effect will the following changes have upon (i) the demand for, (ii) the price, and (iii) the quantity traded of commercially brewed be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new medical report praising the healthy effects of drinking be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big decrease in the price of home-brewing k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rapid increase in population grow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Talk of a possible future strike of brewery work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possible future rec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01B5CA6-BC91-454B-97A4-7E3206B719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457200" y="1181160"/>
            <a:ext cx="84582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What effect will the following changes have upon (i) the demand for, (ii) the price, and (iii) the quantity traded of commercially brewed be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new medical report praising the healthy effects of drinking be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big decrease in the price of home-brewing k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rapid increase in population grow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Talk of a possible future strike of brewery work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possible future rec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Group 35"/>
          <p:cNvGrpSpPr/>
          <p:nvPr/>
        </p:nvGrpSpPr>
        <p:grpSpPr>
          <a:xfrm>
            <a:off x="5092560" y="2932920"/>
            <a:ext cx="1752840" cy="475560"/>
            <a:chOff x="5092560" y="2932920"/>
            <a:chExt cx="1752840" cy="475560"/>
          </a:xfrm>
        </p:grpSpPr>
        <p:sp>
          <p:nvSpPr>
            <p:cNvPr id="1167" name="TextBox 7"/>
            <p:cNvSpPr/>
            <p:nvPr/>
          </p:nvSpPr>
          <p:spPr>
            <a:xfrm>
              <a:off x="5092560" y="300960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8" name="Straight Arrow Connector 9"/>
            <p:cNvCxnSpPr/>
            <p:nvPr/>
          </p:nvCxnSpPr>
          <p:spPr>
            <a:xfrm flipV="1">
              <a:off x="542916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69" name="Straight Arrow Connector 11"/>
            <p:cNvCxnSpPr/>
            <p:nvPr/>
          </p:nvCxnSpPr>
          <p:spPr>
            <a:xfrm flipV="1">
              <a:off x="592992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0" name="Straight Arrow Connector 12"/>
            <p:cNvCxnSpPr/>
            <p:nvPr/>
          </p:nvCxnSpPr>
          <p:spPr>
            <a:xfrm flipV="1">
              <a:off x="646452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71" name="Group 36"/>
          <p:cNvGrpSpPr/>
          <p:nvPr/>
        </p:nvGrpSpPr>
        <p:grpSpPr>
          <a:xfrm>
            <a:off x="2133720" y="3936960"/>
            <a:ext cx="1752480" cy="398880"/>
            <a:chOff x="2133720" y="3936960"/>
            <a:chExt cx="1752480" cy="398880"/>
          </a:xfrm>
        </p:grpSpPr>
        <p:sp>
          <p:nvSpPr>
            <p:cNvPr id="1172" name="TextBox 21"/>
            <p:cNvSpPr/>
            <p:nvPr/>
          </p:nvSpPr>
          <p:spPr>
            <a:xfrm>
              <a:off x="2133720" y="39369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3" name="Straight Arrow Connector 22"/>
            <p:cNvCxnSpPr/>
            <p:nvPr/>
          </p:nvCxnSpPr>
          <p:spPr>
            <a:xfrm>
              <a:off x="2513880" y="393696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4" name="Straight Arrow Connector 23"/>
            <p:cNvCxnSpPr/>
            <p:nvPr/>
          </p:nvCxnSpPr>
          <p:spPr>
            <a:xfrm>
              <a:off x="2971080" y="393696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5" name="Straight Arrow Connector 24"/>
            <p:cNvCxnSpPr/>
            <p:nvPr/>
          </p:nvCxnSpPr>
          <p:spPr>
            <a:xfrm flipH="1">
              <a:off x="3504240" y="393696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76" name="Group 37"/>
          <p:cNvGrpSpPr/>
          <p:nvPr/>
        </p:nvGrpSpPr>
        <p:grpSpPr>
          <a:xfrm>
            <a:off x="7391520" y="4304520"/>
            <a:ext cx="1752480" cy="475560"/>
            <a:chOff x="7391520" y="4304520"/>
            <a:chExt cx="1752480" cy="475560"/>
          </a:xfrm>
        </p:grpSpPr>
        <p:sp>
          <p:nvSpPr>
            <p:cNvPr id="1177" name="TextBox 13"/>
            <p:cNvSpPr/>
            <p:nvPr/>
          </p:nvSpPr>
          <p:spPr>
            <a:xfrm>
              <a:off x="7391520" y="43812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8" name="Straight Arrow Connector 14"/>
            <p:cNvCxnSpPr/>
            <p:nvPr/>
          </p:nvCxnSpPr>
          <p:spPr>
            <a:xfrm flipV="1">
              <a:off x="772812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9" name="Straight Arrow Connector 15"/>
            <p:cNvCxnSpPr/>
            <p:nvPr/>
          </p:nvCxnSpPr>
          <p:spPr>
            <a:xfrm flipV="1">
              <a:off x="822888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0" name="Straight Arrow Connector 16"/>
            <p:cNvCxnSpPr/>
            <p:nvPr/>
          </p:nvCxnSpPr>
          <p:spPr>
            <a:xfrm flipV="1">
              <a:off x="876312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81" name="Group 38"/>
          <p:cNvGrpSpPr/>
          <p:nvPr/>
        </p:nvGrpSpPr>
        <p:grpSpPr>
          <a:xfrm>
            <a:off x="2755800" y="5218920"/>
            <a:ext cx="1752840" cy="475560"/>
            <a:chOff x="2755800" y="5218920"/>
            <a:chExt cx="1752840" cy="475560"/>
          </a:xfrm>
        </p:grpSpPr>
        <p:sp>
          <p:nvSpPr>
            <p:cNvPr id="1182" name="TextBox 17"/>
            <p:cNvSpPr/>
            <p:nvPr/>
          </p:nvSpPr>
          <p:spPr>
            <a:xfrm>
              <a:off x="2755800" y="529560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3" name="Straight Arrow Connector 18"/>
            <p:cNvCxnSpPr/>
            <p:nvPr/>
          </p:nvCxnSpPr>
          <p:spPr>
            <a:xfrm flipV="1">
              <a:off x="310392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4" name="Straight Arrow Connector 19"/>
            <p:cNvCxnSpPr/>
            <p:nvPr/>
          </p:nvCxnSpPr>
          <p:spPr>
            <a:xfrm flipV="1">
              <a:off x="359316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5" name="Straight Arrow Connector 20"/>
            <p:cNvCxnSpPr/>
            <p:nvPr/>
          </p:nvCxnSpPr>
          <p:spPr>
            <a:xfrm flipV="1">
              <a:off x="412776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86" name="Group 39"/>
          <p:cNvGrpSpPr/>
          <p:nvPr/>
        </p:nvGrpSpPr>
        <p:grpSpPr>
          <a:xfrm>
            <a:off x="5880240" y="5803920"/>
            <a:ext cx="1752480" cy="398880"/>
            <a:chOff x="5880240" y="5803920"/>
            <a:chExt cx="1752480" cy="398880"/>
          </a:xfrm>
        </p:grpSpPr>
        <p:sp>
          <p:nvSpPr>
            <p:cNvPr id="1187" name="TextBox 25"/>
            <p:cNvSpPr/>
            <p:nvPr/>
          </p:nvSpPr>
          <p:spPr>
            <a:xfrm>
              <a:off x="5880240" y="580392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8" name="Straight Arrow Connector 26"/>
            <p:cNvCxnSpPr/>
            <p:nvPr/>
          </p:nvCxnSpPr>
          <p:spPr>
            <a:xfrm>
              <a:off x="6260400" y="580392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9" name="Straight Arrow Connector 27"/>
            <p:cNvCxnSpPr/>
            <p:nvPr/>
          </p:nvCxnSpPr>
          <p:spPr>
            <a:xfrm>
              <a:off x="6717600" y="580392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90" name="Straight Arrow Connector 28"/>
            <p:cNvCxnSpPr/>
            <p:nvPr/>
          </p:nvCxnSpPr>
          <p:spPr>
            <a:xfrm flipH="1">
              <a:off x="7250760" y="580392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191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63EF3FE-E927-4048-9172-D27F457C37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456840" y="1595520"/>
            <a:ext cx="84582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rices of Productive Resourc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he price of a productive resource increases, firms will supply le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2.  Business Tax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business taxes rise, firms will supply le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 Technolog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 improvement in technology leads to a fall in the cost of production and an increase in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220BB89-ECFB-4C93-A247-AA27D83127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0520" y="1584000"/>
            <a:ext cx="807732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4.  Prices of Substitutes in Production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 increase in the price of one product will cause a drop in the supply of products that are substitutes in produc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5.  Future Expectation of Supplier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expected future prices will lead to an increase in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6.  Number of Supplier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decrease in the number of suppliers will reduce market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798ECBD-7EFD-4535-9AD6-CF77CE8B72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linga"/>
              </a:rPr>
              <a:t>Effects of an Increase in Supp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Chapter 2-</a:t>
            </a:r>
            <a:fld id="{5B166732-BC14-47B4-A3AB-719924FE4786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5"/>
          <p:cNvSpPr/>
          <p:nvPr/>
        </p:nvSpPr>
        <p:spPr>
          <a:xfrm>
            <a:off x="1990800" y="2166840"/>
            <a:ext cx="3416400" cy="348156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6"/>
          <p:cNvSpPr/>
          <p:nvPr/>
        </p:nvSpPr>
        <p:spPr>
          <a:xfrm flipV="1">
            <a:off x="1898640" y="2355480"/>
            <a:ext cx="4800600" cy="244476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7"/>
          <p:cNvSpPr/>
          <p:nvPr/>
        </p:nvSpPr>
        <p:spPr>
          <a:xfrm flipV="1">
            <a:off x="2359080" y="3108240"/>
            <a:ext cx="4802040" cy="244656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8"/>
          <p:cNvSpPr/>
          <p:nvPr/>
        </p:nvSpPr>
        <p:spPr>
          <a:xfrm>
            <a:off x="3652920" y="3954600"/>
            <a:ext cx="0" cy="1881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9"/>
          <p:cNvSpPr/>
          <p:nvPr/>
        </p:nvSpPr>
        <p:spPr>
          <a:xfrm>
            <a:off x="4299120" y="4613400"/>
            <a:ext cx="0" cy="131760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10"/>
          <p:cNvSpPr/>
          <p:nvPr/>
        </p:nvSpPr>
        <p:spPr>
          <a:xfrm flipH="1">
            <a:off x="1676160" y="4572000"/>
            <a:ext cx="2585880" cy="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1"/>
          <p:cNvSpPr/>
          <p:nvPr/>
        </p:nvSpPr>
        <p:spPr>
          <a:xfrm flipH="1">
            <a:off x="1752120" y="3873600"/>
            <a:ext cx="3962520" cy="46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14"/>
          <p:cNvSpPr/>
          <p:nvPr/>
        </p:nvSpPr>
        <p:spPr>
          <a:xfrm>
            <a:off x="5259240" y="50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15"/>
          <p:cNvSpPr/>
          <p:nvPr/>
        </p:nvSpPr>
        <p:spPr>
          <a:xfrm>
            <a:off x="6796800" y="1982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16"/>
          <p:cNvSpPr/>
          <p:nvPr/>
        </p:nvSpPr>
        <p:spPr>
          <a:xfrm>
            <a:off x="7258680" y="2828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17"/>
          <p:cNvSpPr/>
          <p:nvPr/>
        </p:nvSpPr>
        <p:spPr>
          <a:xfrm>
            <a:off x="4131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18"/>
          <p:cNvSpPr/>
          <p:nvPr/>
        </p:nvSpPr>
        <p:spPr>
          <a:xfrm>
            <a:off x="34455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19"/>
          <p:cNvSpPr/>
          <p:nvPr/>
        </p:nvSpPr>
        <p:spPr>
          <a:xfrm>
            <a:off x="1090440" y="3703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20"/>
          <p:cNvSpPr/>
          <p:nvPr/>
        </p:nvSpPr>
        <p:spPr>
          <a:xfrm>
            <a:off x="1090440" y="43768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23"/>
          <p:cNvSpPr/>
          <p:nvPr/>
        </p:nvSpPr>
        <p:spPr>
          <a:xfrm>
            <a:off x="4649760" y="3503520"/>
            <a:ext cx="1548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25"/>
          <p:cNvSpPr/>
          <p:nvPr/>
        </p:nvSpPr>
        <p:spPr>
          <a:xfrm>
            <a:off x="1976400" y="4010040"/>
            <a:ext cx="4680" cy="48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8"/>
          <p:cNvSpPr/>
          <p:nvPr/>
        </p:nvSpPr>
        <p:spPr>
          <a:xfrm>
            <a:off x="5715000" y="3962520"/>
            <a:ext cx="0" cy="1881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17"/>
          <p:cNvSpPr/>
          <p:nvPr/>
        </p:nvSpPr>
        <p:spPr>
          <a:xfrm>
            <a:off x="5490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Rounded Rectangle 27"/>
          <p:cNvGrpSpPr/>
          <p:nvPr/>
        </p:nvGrpSpPr>
        <p:grpSpPr>
          <a:xfrm>
            <a:off x="6224760" y="3693960"/>
            <a:ext cx="2700000" cy="1878120"/>
            <a:chOff x="6224760" y="3693960"/>
            <a:chExt cx="2700000" cy="1878120"/>
          </a:xfrm>
        </p:grpSpPr>
        <p:pic>
          <p:nvPicPr>
            <p:cNvPr id="1227" name="Rounded Rectangle 27" descr=""/>
            <p:cNvPicPr/>
            <p:nvPr/>
          </p:nvPicPr>
          <p:blipFill>
            <a:blip r:embed="rId1"/>
            <a:stretch/>
          </p:blipFill>
          <p:spPr>
            <a:xfrm>
              <a:off x="6224760" y="3693960"/>
              <a:ext cx="270000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>
              <a:off x="6372360" y="3819600"/>
              <a:ext cx="240660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supply increases, a surplus is created and price fall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TextBox 2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linga"/>
              </a:rPr>
              <a:t>Effects of a Decrease In Supp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Chapter 2-</a:t>
            </a:r>
            <a:fld id="{06F34757-6015-4B80-AB87-18D32ED80E63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2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2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25"/>
          <p:cNvSpPr/>
          <p:nvPr/>
        </p:nvSpPr>
        <p:spPr>
          <a:xfrm>
            <a:off x="1990800" y="2166840"/>
            <a:ext cx="3416400" cy="348156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26"/>
          <p:cNvSpPr/>
          <p:nvPr/>
        </p:nvSpPr>
        <p:spPr>
          <a:xfrm flipV="1">
            <a:off x="1898640" y="2355480"/>
            <a:ext cx="4800600" cy="244476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27"/>
          <p:cNvSpPr/>
          <p:nvPr/>
        </p:nvSpPr>
        <p:spPr>
          <a:xfrm flipV="1">
            <a:off x="2359080" y="3108240"/>
            <a:ext cx="4802040" cy="244656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28"/>
          <p:cNvSpPr/>
          <p:nvPr/>
        </p:nvSpPr>
        <p:spPr>
          <a:xfrm>
            <a:off x="3652920" y="3954600"/>
            <a:ext cx="4680" cy="191268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29"/>
          <p:cNvSpPr/>
          <p:nvPr/>
        </p:nvSpPr>
        <p:spPr>
          <a:xfrm>
            <a:off x="4299120" y="4613400"/>
            <a:ext cx="0" cy="13176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30"/>
          <p:cNvSpPr/>
          <p:nvPr/>
        </p:nvSpPr>
        <p:spPr>
          <a:xfrm flipH="1">
            <a:off x="1676160" y="4572000"/>
            <a:ext cx="2585880" cy="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31"/>
          <p:cNvSpPr/>
          <p:nvPr/>
        </p:nvSpPr>
        <p:spPr>
          <a:xfrm flipH="1">
            <a:off x="1676520" y="3886200"/>
            <a:ext cx="195552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32"/>
          <p:cNvSpPr/>
          <p:nvPr/>
        </p:nvSpPr>
        <p:spPr>
          <a:xfrm>
            <a:off x="5182920" y="50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33"/>
          <p:cNvSpPr/>
          <p:nvPr/>
        </p:nvSpPr>
        <p:spPr>
          <a:xfrm>
            <a:off x="6796800" y="1982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34"/>
          <p:cNvSpPr/>
          <p:nvPr/>
        </p:nvSpPr>
        <p:spPr>
          <a:xfrm>
            <a:off x="7258680" y="2828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35"/>
          <p:cNvSpPr/>
          <p:nvPr/>
        </p:nvSpPr>
        <p:spPr>
          <a:xfrm>
            <a:off x="4131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36"/>
          <p:cNvSpPr/>
          <p:nvPr/>
        </p:nvSpPr>
        <p:spPr>
          <a:xfrm>
            <a:off x="34455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37"/>
          <p:cNvSpPr/>
          <p:nvPr/>
        </p:nvSpPr>
        <p:spPr>
          <a:xfrm>
            <a:off x="1090440" y="3657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38"/>
          <p:cNvSpPr/>
          <p:nvPr/>
        </p:nvSpPr>
        <p:spPr>
          <a:xfrm>
            <a:off x="1090440" y="43434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39"/>
          <p:cNvSpPr/>
          <p:nvPr/>
        </p:nvSpPr>
        <p:spPr>
          <a:xfrm>
            <a:off x="4724280" y="350532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41"/>
          <p:cNvSpPr/>
          <p:nvPr/>
        </p:nvSpPr>
        <p:spPr>
          <a:xfrm flipH="1" flipV="1">
            <a:off x="1980720" y="3962160"/>
            <a:ext cx="1800" cy="53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Rounded Rectangle 23"/>
          <p:cNvGrpSpPr/>
          <p:nvPr/>
        </p:nvGrpSpPr>
        <p:grpSpPr>
          <a:xfrm>
            <a:off x="6516720" y="3456000"/>
            <a:ext cx="2262240" cy="2305080"/>
            <a:chOff x="6516720" y="3456000"/>
            <a:chExt cx="2262240" cy="2305080"/>
          </a:xfrm>
        </p:grpSpPr>
        <p:pic>
          <p:nvPicPr>
            <p:cNvPr id="1252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6516720" y="3456000"/>
              <a:ext cx="226224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6683400" y="3597120"/>
              <a:ext cx="1936800" cy="19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supply decreases, a shortage is created and price ri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4" name="Line 29"/>
          <p:cNvSpPr/>
          <p:nvPr/>
        </p:nvSpPr>
        <p:spPr>
          <a:xfrm>
            <a:off x="2346480" y="4595760"/>
            <a:ext cx="0" cy="13176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2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49402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What are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Supply increases by 50% - what are the new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304920" y="990720"/>
          <a:ext cx="853416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8FF1CB8-9103-4865-BB42-C3C8C418B4D1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eriod of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asures quantities in a specific time period, e.g. a week / month / year 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5FF13FF-CBB2-48DC-A989-F7AF24F0F6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49402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What are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Supply increases by 50% - what are the new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304920" y="990720"/>
          <a:ext cx="853416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675DEC6-6CEF-450E-B5C4-772D47FF81DF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57"/>
          <p:cNvSpPr/>
          <p:nvPr/>
        </p:nvSpPr>
        <p:spPr>
          <a:xfrm>
            <a:off x="739152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58"/>
          <p:cNvSpPr/>
          <p:nvPr/>
        </p:nvSpPr>
        <p:spPr>
          <a:xfrm>
            <a:off x="7391520" y="1905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59"/>
          <p:cNvSpPr/>
          <p:nvPr/>
        </p:nvSpPr>
        <p:spPr>
          <a:xfrm>
            <a:off x="73915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60"/>
          <p:cNvSpPr/>
          <p:nvPr/>
        </p:nvSpPr>
        <p:spPr>
          <a:xfrm>
            <a:off x="739152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61"/>
          <p:cNvSpPr/>
          <p:nvPr/>
        </p:nvSpPr>
        <p:spPr>
          <a:xfrm>
            <a:off x="739152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62"/>
          <p:cNvSpPr/>
          <p:nvPr/>
        </p:nvSpPr>
        <p:spPr>
          <a:xfrm>
            <a:off x="739152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63"/>
          <p:cNvSpPr/>
          <p:nvPr/>
        </p:nvSpPr>
        <p:spPr>
          <a:xfrm>
            <a:off x="73915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12"/>
          <p:cNvSpPr/>
          <p:nvPr/>
        </p:nvSpPr>
        <p:spPr>
          <a:xfrm>
            <a:off x="312408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13"/>
          <p:cNvSpPr/>
          <p:nvPr/>
        </p:nvSpPr>
        <p:spPr>
          <a:xfrm>
            <a:off x="525780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14"/>
          <p:cNvSpPr/>
          <p:nvPr/>
        </p:nvSpPr>
        <p:spPr>
          <a:xfrm>
            <a:off x="106668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15"/>
          <p:cNvSpPr/>
          <p:nvPr/>
        </p:nvSpPr>
        <p:spPr>
          <a:xfrm>
            <a:off x="7353360" y="236232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16"/>
          <p:cNvSpPr/>
          <p:nvPr/>
        </p:nvSpPr>
        <p:spPr>
          <a:xfrm>
            <a:off x="1066680" y="235908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17"/>
          <p:cNvSpPr/>
          <p:nvPr/>
        </p:nvSpPr>
        <p:spPr>
          <a:xfrm>
            <a:off x="3124080" y="236232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Box 1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7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164880" y="1066320"/>
            <a:ext cx="8762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poor harvest in the grape industry results in a big decrease in the supply of grap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umber of wineries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sales tax on wine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introduction of a new fermentation method reduces the time needed for the wine to fer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subsidy for each bottle of wine produced domestical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quota limiting the amount of foreign-made wine entering Canada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7" name="Footer Placeholder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3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655DCB7-540F-4668-B771-42465EA00510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7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164880" y="1066320"/>
            <a:ext cx="8762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poor harvest in the grape industry results in a big decrease in the supply of grap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umber of wineries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sales tax on wine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introduction of a new fermentation method reduces the time needed for the wine to fer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subsidy for each bottle of wine produced domestical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quota limiting the amount of foreign-made wine entering Canada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pSp>
        <p:nvGrpSpPr>
          <p:cNvPr id="1293" name="Group 35"/>
          <p:cNvGrpSpPr/>
          <p:nvPr/>
        </p:nvGrpSpPr>
        <p:grpSpPr>
          <a:xfrm>
            <a:off x="7391520" y="1358280"/>
            <a:ext cx="1752480" cy="475560"/>
            <a:chOff x="7391520" y="1358280"/>
            <a:chExt cx="1752480" cy="475560"/>
          </a:xfrm>
        </p:grpSpPr>
        <p:sp>
          <p:nvSpPr>
            <p:cNvPr id="1294" name="TextBox 7"/>
            <p:cNvSpPr/>
            <p:nvPr/>
          </p:nvSpPr>
          <p:spPr>
            <a:xfrm>
              <a:off x="7391520" y="14349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5" name="Straight Arrow Connector 8"/>
            <p:cNvCxnSpPr/>
            <p:nvPr/>
          </p:nvCxnSpPr>
          <p:spPr>
            <a:xfrm flipH="1">
              <a:off x="7724880" y="143460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96" name="Straight Arrow Connector 9"/>
            <p:cNvCxnSpPr/>
            <p:nvPr/>
          </p:nvCxnSpPr>
          <p:spPr>
            <a:xfrm flipV="1">
              <a:off x="8228880" y="135828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97" name="Straight Arrow Connector 10"/>
            <p:cNvCxnSpPr/>
            <p:nvPr/>
          </p:nvCxnSpPr>
          <p:spPr>
            <a:xfrm flipH="1">
              <a:off x="8762040" y="143496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298" name="Group 41"/>
          <p:cNvGrpSpPr/>
          <p:nvPr/>
        </p:nvGrpSpPr>
        <p:grpSpPr>
          <a:xfrm>
            <a:off x="6718320" y="1905840"/>
            <a:ext cx="1752480" cy="403920"/>
            <a:chOff x="6718320" y="1905840"/>
            <a:chExt cx="1752480" cy="403920"/>
          </a:xfrm>
        </p:grpSpPr>
        <p:sp>
          <p:nvSpPr>
            <p:cNvPr id="1299" name="TextBox 15"/>
            <p:cNvSpPr/>
            <p:nvPr/>
          </p:nvSpPr>
          <p:spPr>
            <a:xfrm>
              <a:off x="6718320" y="1910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0" name="Straight Arrow Connector 16"/>
            <p:cNvCxnSpPr/>
            <p:nvPr/>
          </p:nvCxnSpPr>
          <p:spPr>
            <a:xfrm flipV="1">
              <a:off x="7040160" y="1905840"/>
              <a:ext cx="2160" cy="3632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1" name="Straight Arrow Connector 17"/>
            <p:cNvCxnSpPr/>
            <p:nvPr/>
          </p:nvCxnSpPr>
          <p:spPr>
            <a:xfrm>
              <a:off x="7555680" y="1929600"/>
              <a:ext cx="1440" cy="3243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2" name="Straight Arrow Connector 18"/>
            <p:cNvCxnSpPr/>
            <p:nvPr/>
          </p:nvCxnSpPr>
          <p:spPr>
            <a:xfrm flipH="1" flipV="1">
              <a:off x="8089560" y="194868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03" name="Group 53"/>
          <p:cNvGrpSpPr/>
          <p:nvPr/>
        </p:nvGrpSpPr>
        <p:grpSpPr>
          <a:xfrm>
            <a:off x="6400800" y="2367720"/>
            <a:ext cx="1752480" cy="475560"/>
            <a:chOff x="6400800" y="2367720"/>
            <a:chExt cx="1752480" cy="475560"/>
          </a:xfrm>
        </p:grpSpPr>
        <p:sp>
          <p:nvSpPr>
            <p:cNvPr id="1304" name="TextBox 19"/>
            <p:cNvSpPr/>
            <p:nvPr/>
          </p:nvSpPr>
          <p:spPr>
            <a:xfrm>
              <a:off x="6400800" y="24444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5" name="Straight Arrow Connector 20"/>
            <p:cNvCxnSpPr/>
            <p:nvPr/>
          </p:nvCxnSpPr>
          <p:spPr>
            <a:xfrm flipH="1">
              <a:off x="6734160" y="244404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6" name="Straight Arrow Connector 21"/>
            <p:cNvCxnSpPr/>
            <p:nvPr/>
          </p:nvCxnSpPr>
          <p:spPr>
            <a:xfrm flipV="1">
              <a:off x="7238160" y="23677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7" name="Straight Arrow Connector 22"/>
            <p:cNvCxnSpPr/>
            <p:nvPr/>
          </p:nvCxnSpPr>
          <p:spPr>
            <a:xfrm flipH="1">
              <a:off x="7771320" y="244440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08" name="Group 52"/>
          <p:cNvGrpSpPr/>
          <p:nvPr/>
        </p:nvGrpSpPr>
        <p:grpSpPr>
          <a:xfrm>
            <a:off x="7162920" y="5707800"/>
            <a:ext cx="1752480" cy="475560"/>
            <a:chOff x="7162920" y="5707800"/>
            <a:chExt cx="1752480" cy="475560"/>
          </a:xfrm>
        </p:grpSpPr>
        <p:sp>
          <p:nvSpPr>
            <p:cNvPr id="1309" name="TextBox 31"/>
            <p:cNvSpPr/>
            <p:nvPr/>
          </p:nvSpPr>
          <p:spPr>
            <a:xfrm>
              <a:off x="7162920" y="57844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0" name="Straight Arrow Connector 32"/>
            <p:cNvCxnSpPr/>
            <p:nvPr/>
          </p:nvCxnSpPr>
          <p:spPr>
            <a:xfrm flipH="1">
              <a:off x="7496280" y="578412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1" name="Straight Arrow Connector 33"/>
            <p:cNvCxnSpPr/>
            <p:nvPr/>
          </p:nvCxnSpPr>
          <p:spPr>
            <a:xfrm flipV="1">
              <a:off x="8000280" y="570780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2" name="Straight Arrow Connector 34"/>
            <p:cNvCxnSpPr/>
            <p:nvPr/>
          </p:nvCxnSpPr>
          <p:spPr>
            <a:xfrm flipH="1">
              <a:off x="8533440" y="578448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13" name="Group 42"/>
          <p:cNvGrpSpPr/>
          <p:nvPr/>
        </p:nvGrpSpPr>
        <p:grpSpPr>
          <a:xfrm>
            <a:off x="2832120" y="3594240"/>
            <a:ext cx="1752480" cy="403200"/>
            <a:chOff x="2832120" y="3594240"/>
            <a:chExt cx="1752480" cy="403200"/>
          </a:xfrm>
        </p:grpSpPr>
        <p:sp>
          <p:nvSpPr>
            <p:cNvPr id="1314" name="TextBox 43"/>
            <p:cNvSpPr/>
            <p:nvPr/>
          </p:nvSpPr>
          <p:spPr>
            <a:xfrm>
              <a:off x="2832120" y="35985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5" name="Straight Arrow Connector 44"/>
            <p:cNvCxnSpPr/>
            <p:nvPr/>
          </p:nvCxnSpPr>
          <p:spPr>
            <a:xfrm flipV="1">
              <a:off x="3153960" y="3594240"/>
              <a:ext cx="2160" cy="36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6" name="Straight Arrow Connector 45"/>
            <p:cNvCxnSpPr/>
            <p:nvPr/>
          </p:nvCxnSpPr>
          <p:spPr>
            <a:xfrm>
              <a:off x="3669480" y="3617640"/>
              <a:ext cx="1440" cy="3240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7" name="Straight Arrow Connector 46"/>
            <p:cNvCxnSpPr/>
            <p:nvPr/>
          </p:nvCxnSpPr>
          <p:spPr>
            <a:xfrm flipH="1" flipV="1">
              <a:off x="4203360" y="363636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18" name="Group 47"/>
          <p:cNvGrpSpPr/>
          <p:nvPr/>
        </p:nvGrpSpPr>
        <p:grpSpPr>
          <a:xfrm>
            <a:off x="6222960" y="4470480"/>
            <a:ext cx="1752480" cy="403200"/>
            <a:chOff x="6222960" y="4470480"/>
            <a:chExt cx="1752480" cy="403200"/>
          </a:xfrm>
        </p:grpSpPr>
        <p:sp>
          <p:nvSpPr>
            <p:cNvPr id="1319" name="TextBox 48"/>
            <p:cNvSpPr/>
            <p:nvPr/>
          </p:nvSpPr>
          <p:spPr>
            <a:xfrm>
              <a:off x="6222960" y="4474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0" name="Straight Arrow Connector 49"/>
            <p:cNvCxnSpPr/>
            <p:nvPr/>
          </p:nvCxnSpPr>
          <p:spPr>
            <a:xfrm flipV="1">
              <a:off x="6544800" y="4470480"/>
              <a:ext cx="2160" cy="36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21" name="Straight Arrow Connector 50"/>
            <p:cNvCxnSpPr/>
            <p:nvPr/>
          </p:nvCxnSpPr>
          <p:spPr>
            <a:xfrm>
              <a:off x="7060320" y="4493880"/>
              <a:ext cx="1440" cy="3240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22" name="Straight Arrow Connector 51"/>
            <p:cNvCxnSpPr/>
            <p:nvPr/>
          </p:nvCxnSpPr>
          <p:spPr>
            <a:xfrm flipH="1" flipV="1">
              <a:off x="7594200" y="451260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323" name="Footer Placeholder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Box 3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9B40CC5-0F20-4AF2-9A93-F051BC732C12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Key Concepts to Remember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6840" y="2519280"/>
            <a:ext cx="83818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demand vs quantity demanded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supply vs quantity supplied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term “market”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equilibrium price and quantit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determinants of demand and suppl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effect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 change in demand or a change in supply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hy demand and supply determine price, not the reverse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SUMMARY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38CE517-1048-41A0-B676-D3A1BC872A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arious pric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ows relationship between quantity &amp;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is the most important determinant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teris paribus” – all else remains the sa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3416EEA-A30C-4DE8-98F8-8158375024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mand Schedul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table showing the various quantities demanded at different price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mand Curv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 representation of a demand schedu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F38A61E-3C5A-418B-86D0-7B2655F5AE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143000" y="1676520"/>
          <a:ext cx="6934320" cy="4065480"/>
        </p:xfrm>
        <a:graphic>
          <a:graphicData uri="http://schemas.openxmlformats.org/drawingml/2006/table">
            <a:tbl>
              <a:tblPr/>
              <a:tblGrid>
                <a:gridCol w="2971800"/>
                <a:gridCol w="3962520"/>
              </a:tblGrid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Per 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ses per mon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09C5928-589B-4D0C-A5A2-877CDF7B5B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1:26Z</dcterms:modified>
  <cp:revision>173</cp:revision>
  <dc:subject/>
  <dc:title>Slide 1</dc:title>
</cp:coreProperties>
</file>